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4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3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  <p:custShowLst>
    <p:custShow name="Arithmetic Progression" id="0">
      <p:sldLst>
        <p:sld r:id="rId16"/>
      </p:sldLst>
    </p:custShow>
    <p:custShow name="Filtered Evaluator" id="1">
      <p:sldLst>
        <p:sld r:id="rId17"/>
      </p:sldLst>
    </p:custShow>
    <p:custShow name="Sieve Eval" id="2">
      <p:sldLst>
        <p:sld r:id="rId18"/>
        <p:sld r:id="rId19"/>
        <p:sld r:id="rId20"/>
        <p:sld r:id="rId21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1723-5A8B-40D1-856D-1349205ED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BD9A-FFC4-458E-B019-AC134667D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D296-2BE8-4332-A947-2210B3A41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0E98-9AB8-4A0B-9940-27FE6E4C9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CFD52-7D31-407E-8A1C-60D5AD730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1FCAE-1AD8-4F2B-A85D-AEA3D65DE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DEF3F-DC26-4394-957B-2B7ECFA84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ECB23-DE38-4E94-8CFE-42ACAD0D0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8B556-31EC-4D93-BCA3-E0E68D8A7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43AE9-B9AF-4773-B00A-03668C81B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5132E-8975-4832-80EB-A28892776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A727-C54A-444C-B604-503F02E94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9F369-79A6-4FB5-A9E0-E154DDD19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10F06-8D99-4053-A763-A187EC4F0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8EEAA-D020-4C7D-9CD6-D47CE8DB6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A50C7-FC26-4F41-BE95-BCACBC669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71507-AD8A-4730-B964-357D369AE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860E-AFCB-4483-AB95-F5DFFB4B2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C159-8B88-418A-9B8A-17FDAF5EC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00C2-D104-41FC-AE15-C84A07B8C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A216-79A6-47E5-8AE6-6DF7BEE22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796E-7678-4E65-9935-BDCD199CE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6F00-B81F-430F-8040-3760DA417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CD4D-0D3D-4332-A3A3-49AA2FC0B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Viner Hand ITC"/>
              </a:rPr>
              <a:t>Click to edit the title text format</a:t>
            </a: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18F42-A402-4A62-B484-BBB628F944B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Viner Hand ITC"/>
              </a:rPr>
              <a:t>Click to edit the title text format</a:t>
            </a: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4C39E-97D2-4997-8DA2-F3A16D375BD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dxnguyen@rice.edu" TargetMode="External"/><Relationship Id="rId2" Type="http://schemas.openxmlformats.org/officeDocument/2006/relationships/hyperlink" Target="mailto:swong@rice.edu" TargetMode="External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hyperlink" Target="..\animations\Decorator Projector.exe" TargetMode="External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image" Target="../media/image17.wmf"/><Relationship Id="rId6" Type="http://schemas.openxmlformats.org/officeDocument/2006/relationships/image" Target="../media/image18.wmf"/><Relationship Id="rId7" Type="http://schemas.openxmlformats.org/officeDocument/2006/relationships/image" Target="../media/image19.wmf"/><Relationship Id="rId8" Type="http://schemas.openxmlformats.org/officeDocument/2006/relationships/image" Target="../media/image20.wmf"/><Relationship Id="rId9" Type="http://schemas.openxmlformats.org/officeDocument/2006/relationships/image" Target="../media/image21.wmf"/><Relationship Id="rId10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jpeg"/><Relationship Id="rId3" Type="http://schemas.openxmlformats.org/officeDocument/2006/relationships/image" Target="../media/image23.jpeg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71320" y="380520"/>
            <a:ext cx="8001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Viner Hand ITC"/>
              </a:rPr>
              <a:t>Design Patterns for</a:t>
            </a:r>
            <a:br>
              <a:rPr sz="4800"/>
            </a:br>
            <a:r>
              <a:rPr b="1" lang="en-US" sz="4800" spc="-1" strike="noStrike">
                <a:solidFill>
                  <a:srgbClr val="0000cc"/>
                </a:solidFill>
                <a:latin typeface="Viner Hand ITC"/>
              </a:rPr>
              <a:t>Lazy Evaluation</a:t>
            </a:r>
            <a:endParaRPr b="1" lang="en-US" sz="48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838080" y="2895480"/>
            <a:ext cx="784872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ung “Zung” Nguyen, Stephen B. Wong </a:t>
            </a: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ice University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uston, TX USA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6633"/>
                </a:solidFill>
                <a:uFillTx/>
                <a:latin typeface="Times New Roman"/>
                <a:hlinkClick r:id="rId1"/>
              </a:rPr>
              <a:t>dxnguyen@rice.edu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, </a:t>
            </a:r>
            <a:r>
              <a:rPr b="1" lang="en-US" sz="3200" spc="-1" strike="noStrike" u="sng">
                <a:solidFill>
                  <a:srgbClr val="996633"/>
                </a:solidFill>
                <a:uFillTx/>
                <a:latin typeface="Times New Roman"/>
                <a:hlinkClick r:id="rId2"/>
              </a:rPr>
              <a:t>swong@rice.edu</a:t>
            </a: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2438280" y="1752480"/>
            <a:ext cx="1981440" cy="381240"/>
          </a:xfrm>
          <a:prstGeom prst="wedgeRoundRectCallout">
            <a:avLst>
              <a:gd name="adj1" fmla="val 53606"/>
              <a:gd name="adj2" fmla="val 141250"/>
              <a:gd name="adj3" fmla="val 16667"/>
            </a:avLst>
          </a:prstGeom>
          <a:solidFill>
            <a:srgbClr val="66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bstract factor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191120" y="1143000"/>
            <a:ext cx="1371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715000" y="1143000"/>
            <a:ext cx="1600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543800" y="1143000"/>
            <a:ext cx="1600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133200" y="2286000"/>
            <a:ext cx="9010800" cy="3457440"/>
            <a:chOff x="133200" y="2286000"/>
            <a:chExt cx="9010800" cy="3457440"/>
          </a:xfrm>
        </p:grpSpPr>
        <p:pic>
          <p:nvPicPr>
            <p:cNvPr id="163" name="" descr=""/>
            <p:cNvPicPr/>
            <p:nvPr/>
          </p:nvPicPr>
          <p:blipFill>
            <a:blip r:embed="rId1"/>
            <a:stretch/>
          </p:blipFill>
          <p:spPr>
            <a:xfrm>
              <a:off x="133200" y="2286000"/>
              <a:ext cx="9010800" cy="345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" descr=""/>
            <p:cNvPicPr/>
            <p:nvPr/>
          </p:nvPicPr>
          <p:blipFill>
            <a:blip r:embed="rId2"/>
            <a:stretch/>
          </p:blipFill>
          <p:spPr>
            <a:xfrm>
              <a:off x="4648320" y="3048120"/>
              <a:ext cx="215244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" descr=""/>
            <p:cNvPicPr/>
            <p:nvPr/>
          </p:nvPicPr>
          <p:blipFill>
            <a:blip r:embed="rId3"/>
            <a:stretch/>
          </p:blipFill>
          <p:spPr>
            <a:xfrm>
              <a:off x="5334120" y="2590920"/>
              <a:ext cx="324792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" descr=""/>
            <p:cNvPicPr/>
            <p:nvPr/>
          </p:nvPicPr>
          <p:blipFill>
            <a:blip r:embed="rId4"/>
            <a:stretch/>
          </p:blipFill>
          <p:spPr>
            <a:xfrm>
              <a:off x="4648320" y="3276720"/>
              <a:ext cx="3429000" cy="21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"/>
            <p:cNvSpPr/>
            <p:nvPr/>
          </p:nvSpPr>
          <p:spPr>
            <a:xfrm>
              <a:off x="4648320" y="5409000"/>
              <a:ext cx="4190760" cy="30708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LazyNonNullState (dat Object, lazy: ALazyEv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7543800" y="3886200"/>
            <a:ext cx="1295280" cy="380880"/>
          </a:xfrm>
          <a:prstGeom prst="wedgeRoundRectCallout">
            <a:avLst>
              <a:gd name="adj1" fmla="val -97305"/>
              <a:gd name="adj2" fmla="val -63333"/>
              <a:gd name="adj3" fmla="val 16667"/>
            </a:avLst>
          </a:prstGeom>
          <a:solidFill>
            <a:srgbClr val="cc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ff"/>
                </a:solidFill>
                <a:latin typeface="Times New Roman"/>
              </a:rPr>
              <a:t>Strate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971800" y="5867280"/>
            <a:ext cx="1523880" cy="381240"/>
          </a:xfrm>
          <a:prstGeom prst="wedgeRoundRectCallout">
            <a:avLst>
              <a:gd name="adj1" fmla="val 37500"/>
              <a:gd name="adj2" fmla="val -229166"/>
              <a:gd name="adj3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Deco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066680" y="2438280"/>
            <a:ext cx="1371600" cy="304920"/>
          </a:xfrm>
          <a:prstGeom prst="wedgeRoundRectCallout">
            <a:avLst>
              <a:gd name="adj1" fmla="val 83101"/>
              <a:gd name="adj2" fmla="val 169791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Viner Hand ITC"/>
              </a:rPr>
              <a:t>Design Patterns for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Viner Hand ITC"/>
              </a:rPr>
              <a:t>Lazy Evaluation</a:t>
            </a: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Viner Hand ITC"/>
              </a:rPr>
              <a:t>Maxwell’s Equations</a:t>
            </a: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905120" y="2057400"/>
                <a:ext cx="5384520" cy="400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∂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z</m:t>
                            </m:r>
                          </m:den>
                        </m:f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ρ</m:t>
                        </m:r>
                      </m:e>
                      <m:e>
                        <m:f>
                          <m:num>
                            <m:r>
                              <m:t xml:space="preserve">∂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z</m:t>
                            </m:r>
                          </m:den>
                        </m:f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y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z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</m:e>
                        </m:d>
                        <m:acc>
                          <m:accPr>
                            <m:chr m:val="^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z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x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</m:e>
                        </m:d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x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y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e>
                        </m:d>
                        <m:acc>
                          <m:accPr>
                            <m:chr m:val="^"/>
                          </m:accPr>
                          <m:e>
                            <m:r>
                              <m:t xml:space="preserve">z</m:t>
                            </m:r>
                          </m:e>
                        </m:acc>
                      </m:e>
                      <m:e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t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t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t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z</m:t>
                                </m:r>
                              </m:e>
                            </m:acc>
                          </m:e>
                        </m:d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y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z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</m:e>
                        </m:d>
                        <m:acc>
                          <m:accPr>
                            <m:chr m:val="^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z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x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</m:e>
                        </m:d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x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y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e>
                        </m:d>
                        <m:acc>
                          <m:accPr>
                            <m:chr m:val="^"/>
                          </m:accPr>
                          <m:e>
                            <m:r>
                              <m:t xml:space="preserve">z</m:t>
                            </m:r>
                          </m:e>
                        </m:acc>
                      </m:e>
                      <m:e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t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t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t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z</m:t>
                                </m:r>
                              </m:e>
                            </m:acc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z</m:t>
                                </m:r>
                              </m:e>
                            </m:acc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4" name=""/>
          <p:cNvSpPr/>
          <p:nvPr/>
        </p:nvSpPr>
        <p:spPr>
          <a:xfrm>
            <a:off x="1676520" y="1905120"/>
            <a:ext cx="5715000" cy="434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3429000" y="2743200"/>
                <a:ext cx="2235240" cy="191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∇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ρ</m:t>
                        </m:r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∇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∇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∂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t</m:t>
                            </m:r>
                          </m:den>
                        </m:f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∇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f>
                          <m:num>
                            <m:r>
                              <m:t xml:space="preserve">∂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t</m:t>
                            </m:r>
                          </m:den>
                        </m:f>
                        <m:acc>
                          <m:accPr>
                            <m:chr m:val="⃗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  <m:r>
                          <m:t xml:space="preserve">+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6" name=""/>
          <p:cNvSpPr txBox="1"/>
          <p:nvPr/>
        </p:nvSpPr>
        <p:spPr>
          <a:xfrm rot="19956600">
            <a:off x="2742840" y="3429000"/>
            <a:ext cx="3162240" cy="657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oubleWave1">
              <a:avLst>
                <a:gd name="adj1" fmla="val 10319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Without Pattern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62120" y="1752480"/>
            <a:ext cx="3390840" cy="648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With Patterns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8" name=""/>
          <p:cNvSpPr txBox="1"/>
          <p:nvPr/>
        </p:nvSpPr>
        <p:spPr>
          <a:xfrm rot="21531000">
            <a:off x="4648320" y="4800240"/>
            <a:ext cx="3657600" cy="11462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Down">
              <a:avLst>
                <a:gd name="adj" fmla="val 6886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10800000"/>
                </a:gradFill>
                <a:latin typeface="Impact"/>
              </a:rPr>
              <a:t>Let there be Light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108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Viner Hand ITC"/>
              </a:rPr>
              <a:t>Patterns in CS1/CS2</a:t>
            </a: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28600" y="1885680"/>
            <a:ext cx="86868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ww.owlnet.rice.edu/~comp201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ww.owlnet.rice.edu/~comp212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ww.exciton.cs.rice.edu/cs150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ww.exciton.cs.rice.edu/cs151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ww.exciton.cs.rice.edu/JavaResourc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Viner Hand ITC"/>
              </a:rPr>
              <a:t>Arithmetic Progression</a:t>
            </a: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182" name=""/>
          <p:cNvSpPr/>
          <p:nvPr/>
        </p:nvSpPr>
        <p:spPr>
          <a:xfrm>
            <a:off x="609480" y="1460160"/>
            <a:ext cx="636300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public class LazyIncEva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extends ALazyEval 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vate Integer _val;  </a:t>
            </a:r>
            <a:r>
              <a:rPr b="1" lang="en-US" sz="2000" spc="-1" strike="noStrike">
                <a:solidFill>
                  <a:srgbClr val="33cc33"/>
                </a:solidFill>
                <a:latin typeface="Arial"/>
              </a:rPr>
              <a:t>// current valu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vate int  _inc;        </a:t>
            </a:r>
            <a:r>
              <a:rPr b="1" lang="en-US" sz="2000" spc="-1" strike="noStrike">
                <a:solidFill>
                  <a:srgbClr val="33cc33"/>
                </a:solidFill>
                <a:latin typeface="Arial"/>
              </a:rPr>
              <a:t>// increment 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blic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LazyIncEval(Integer val, int inc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{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_val = val;   _inc = inc;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blic final LRStruct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nextLRS(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_val = new Integer (_val.intValue () + _inc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turn 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makeLazyLR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_val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blic final LRStruct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makeLRS(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turn 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makeLazyLR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_val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029200" y="3200400"/>
            <a:ext cx="3962520" cy="685800"/>
          </a:xfrm>
          <a:prstGeom prst="wedgeRectCallout">
            <a:avLst>
              <a:gd name="adj1" fmla="val -47513"/>
              <a:gd name="adj2" fmla="val 103703"/>
            </a:avLst>
          </a:prstGeom>
          <a:solidFill>
            <a:srgbClr val="ffcc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crement the current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 make a new lazy li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562720" y="5410080"/>
            <a:ext cx="3352680" cy="762120"/>
          </a:xfrm>
          <a:prstGeom prst="wedgeRectCallout">
            <a:avLst>
              <a:gd name="adj1" fmla="val -73578"/>
              <a:gd name="adj2" fmla="val 23333"/>
            </a:avLst>
          </a:prstGeom>
          <a:solidFill>
            <a:srgbClr val="ffcc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zy list with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urrent value as fir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49" dur="1" fill="hold"/>
                                  <p:tgtEl>
                                    <p:spTgt spid="1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Viner Hand ITC"/>
              </a:rPr>
              <a:t>Lazy Filter Evaluator</a:t>
            </a: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186" name=""/>
          <p:cNvSpPr/>
          <p:nvPr/>
        </p:nvSpPr>
        <p:spPr>
          <a:xfrm>
            <a:off x="140400" y="1522080"/>
            <a:ext cx="881424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blic class LazyFilterEval extends ALazyEval 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vate Integer _factor;  </a:t>
            </a:r>
            <a:r>
              <a:rPr b="1" lang="en-US" sz="2000" spc="-1" strike="noStrike">
                <a:solidFill>
                  <a:srgbClr val="33cc33"/>
                </a:solidFill>
                <a:latin typeface="Arial"/>
              </a:rPr>
              <a:t>// factor to be filtered out.</a:t>
            </a: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vate LRStruct _src;   </a:t>
            </a:r>
            <a:r>
              <a:rPr b="1" lang="en-US" sz="2000" spc="-1" strike="noStrike">
                <a:solidFill>
                  <a:srgbClr val="33cc33"/>
                </a:solidFill>
                <a:latin typeface="Arial"/>
              </a:rPr>
              <a:t>// source for filtering out multiples of _fact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blic LazyFilterEval (Integer f, LRStruct s)  { _factor = f;  _src = s; 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blic LRStruct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nextLRS (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{ return makeLRS ();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blic LRStruct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makeLRS (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_src = (LRStruct) _src.execute (SkipLeadMuls.Singleton, _factor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(((Boolean)_src.execute (IsNull.Singleton, null)).booleanValue())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  return new LRStruct (); }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 {   return 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makeLazyLR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_src.removeFirst ());  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blic final Integer </a:t>
            </a:r>
            <a:r>
              <a:rPr b="1" lang="en-US" sz="2000" spc="-1" strike="noStrike">
                <a:solidFill>
                  <a:srgbClr val="990099"/>
                </a:solidFill>
                <a:latin typeface="Arial"/>
              </a:rPr>
              <a:t>getFactor (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{ return _factor;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962520" y="1752480"/>
            <a:ext cx="4952880" cy="1219320"/>
          </a:xfrm>
          <a:prstGeom prst="wedgeRectCallout">
            <a:avLst>
              <a:gd name="adj1" fmla="val -43398"/>
              <a:gd name="adj2" fmla="val 88541"/>
            </a:avLst>
          </a:prstGeom>
          <a:solidFill>
            <a:srgbClr val="ffcc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ductive and base case are identic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th need to create a filtered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rom the source list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114800" y="3200400"/>
            <a:ext cx="4800600" cy="914400"/>
          </a:xfrm>
          <a:prstGeom prst="wedgeRectCallout">
            <a:avLst>
              <a:gd name="adj1" fmla="val -39486"/>
              <a:gd name="adj2" fmla="val 102777"/>
            </a:avLst>
          </a:prstGeom>
          <a:solidFill>
            <a:srgbClr val="ffcc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the source ends up empty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reate and return a new empty list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267080" y="3809880"/>
            <a:ext cx="4648320" cy="1143000"/>
          </a:xfrm>
          <a:prstGeom prst="wedgeRectCallout">
            <a:avLst>
              <a:gd name="adj1" fmla="val -39685"/>
              <a:gd name="adj2" fmla="val 74444"/>
            </a:avLst>
          </a:prstGeom>
          <a:solidFill>
            <a:srgbClr val="ffcc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lse remove first from the source,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reate and return a new lazy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ith that value as its first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76920" y="2895480"/>
            <a:ext cx="4114800" cy="914400"/>
          </a:xfrm>
          <a:prstGeom prst="wedgeRectCallout">
            <a:avLst>
              <a:gd name="adj1" fmla="val -46064"/>
              <a:gd name="adj2" fmla="val 102777"/>
            </a:avLst>
          </a:prstGeom>
          <a:solidFill>
            <a:srgbClr val="ffcc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kip all leading mult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f the factor in the source list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77" dur="1" fill="hold"/>
                                  <p:tgtEl>
                                    <p:spTgt spid="1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8432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Viner Hand ITC"/>
              </a:rPr>
              <a:t>What is a List of Primes Anyway?</a:t>
            </a: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46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efinition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rocedural:  Sieve of Erastothen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eclarative: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A list with a 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first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 and </a:t>
            </a:r>
            <a:r>
              <a:rPr b="1" lang="en-US" sz="2800" spc="-1" strike="noStrike">
                <a:solidFill>
                  <a:srgbClr val="33cc33"/>
                </a:solidFill>
                <a:latin typeface="Tahoma"/>
              </a:rPr>
              <a:t>rest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ieve List”:  A non-null list where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first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is an inte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Tahoma"/>
              </a:rPr>
              <a:t>rest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is a “Sieve list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ith no multiples of 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fir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Tahoma"/>
              </a:rPr>
              <a:t>re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.first is the next greater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non-multipl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of 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fir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508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Viner Hand ITC"/>
              </a:rPr>
              <a:t>A List of Primes </a:t>
            </a: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8178840" cy="29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Lazy Sieve implementation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hen rest is requested, a Sieve list must return a list guaranteed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not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to contain any multiples of first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 Sieve evaluator needs to hold a lazy filter evaluat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"/>
          <p:cNvSpPr/>
          <p:nvPr/>
        </p:nvSpPr>
        <p:spPr>
          <a:xfrm>
            <a:off x="1124640" y="1814040"/>
            <a:ext cx="717300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Times New Roman"/>
              </a:rPr>
              <a:t>A Sieve list whose first element equals 2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00"/>
                </a:solidFill>
                <a:latin typeface="Times New Roman"/>
              </a:rPr>
              <a:t>is</a:t>
            </a:r>
            <a:r>
              <a:rPr b="1" lang="en-US" sz="3200" spc="-1" strike="noStrike">
                <a:solidFill>
                  <a:srgbClr val="006600"/>
                </a:solidFill>
                <a:latin typeface="Times New Roman"/>
              </a:rPr>
              <a:t> the list of prim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Times New Roman"/>
              </a:rPr>
              <a:t>(initial list = all integer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Viner Hand ITC"/>
              </a:rPr>
              <a:t>Sieve List’s Rest</a:t>
            </a: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2285640"/>
            <a:ext cx="817884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urrent prime = filtered list’s firs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filter evaluator = a new one: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ctor = current pr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rc = rest of old filtered li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Return a new lazy lis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914400" y="5334120"/>
            <a:ext cx="7543800" cy="12189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InflateTop">
              <a:avLst>
                <a:gd name="adj" fmla="val 16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cc3300"/>
                    </a:gs>
                  </a:gsLst>
                  <a:lin ang="5400000"/>
                </a:gradFill>
                <a:latin typeface="Arial Black"/>
              </a:rPr>
              <a:t>Guarantee:  Rest has no multiples of first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9933"/>
                  </a:gs>
                  <a:gs pos="100000">
                    <a:srgbClr val="cc33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99" name=""/>
          <p:cNvSpPr/>
          <p:nvPr/>
        </p:nvSpPr>
        <p:spPr>
          <a:xfrm>
            <a:off x="451800" y="1675440"/>
            <a:ext cx="616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Times New Roman"/>
              </a:rPr>
              <a:t>Sieve evaluator’s nextLRS shoul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54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59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64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69" dur="5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74" dur="500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52280" y="1674720"/>
            <a:ext cx="83440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public class LazySieveEva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extends ALazyEval 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zyFilterEval lazyFilter; </a:t>
            </a:r>
            <a:r>
              <a:rPr b="1" lang="en-US" sz="2000" spc="-1" strike="noStrike">
                <a:solidFill>
                  <a:srgbClr val="33cc33"/>
                </a:solidFill>
                <a:latin typeface="Arial"/>
              </a:rPr>
              <a:t>// to filter out multiples of prim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blic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LazySieveEval(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er two = new Integer (2); </a:t>
            </a: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// first prim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RStruct src = (new LazyIncEval (two, 1)).makeLRS (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zyFilter = new LazyFilterEval (two, src);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blic LRStruct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nextLRS(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er prime = (Integer)lazyFilter.nextLRS ().getFirst ()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zyFilter = new LazyFilterEval (prime, lazyFilter.makeLRS (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turn 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makeLazyLR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prime);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blic LRStruct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makeLRS(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{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turn 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makeLazyLR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lazyFilter.getFactor ());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Viner Hand ITC"/>
              </a:rPr>
              <a:t>Sieve of Eratosthenes</a:t>
            </a: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202" name=""/>
          <p:cNvSpPr/>
          <p:nvPr/>
        </p:nvSpPr>
        <p:spPr>
          <a:xfrm>
            <a:off x="5410080" y="2438280"/>
            <a:ext cx="3505320" cy="381240"/>
          </a:xfrm>
          <a:prstGeom prst="wedgeRectCallout">
            <a:avLst>
              <a:gd name="adj1" fmla="val -38495"/>
              <a:gd name="adj2" fmla="val 173333"/>
            </a:avLst>
          </a:prstGeom>
          <a:solidFill>
            <a:srgbClr val="ffcc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zy list of integers &gt;= 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962520" y="3886200"/>
            <a:ext cx="4876560" cy="457200"/>
          </a:xfrm>
          <a:prstGeom prst="wedgeRectCallout">
            <a:avLst>
              <a:gd name="adj1" fmla="val -44074"/>
              <a:gd name="adj2" fmla="val 219444"/>
            </a:avLst>
          </a:prstGeom>
          <a:solidFill>
            <a:srgbClr val="ffcc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zy list with the next prime as fir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191120" y="3809880"/>
            <a:ext cx="4724280" cy="762120"/>
          </a:xfrm>
          <a:prstGeom prst="wedgeRectCallout">
            <a:avLst>
              <a:gd name="adj1" fmla="val -44421"/>
              <a:gd name="adj2" fmla="val 80000"/>
            </a:avLst>
          </a:prstGeom>
          <a:solidFill>
            <a:srgbClr val="ffcc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t filter strategy to filter the nex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ime from the old filtered li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5334120"/>
            <a:ext cx="4800600" cy="457200"/>
          </a:xfrm>
          <a:prstGeom prst="wedgeRectCallout">
            <a:avLst>
              <a:gd name="adj1" fmla="val -46361"/>
              <a:gd name="adj2" fmla="val 91666"/>
            </a:avLst>
          </a:prstGeom>
          <a:solidFill>
            <a:srgbClr val="ffcc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zy list with current prime as fir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886200" y="2362320"/>
            <a:ext cx="5029200" cy="533160"/>
          </a:xfrm>
          <a:prstGeom prst="wedgeRectCallout">
            <a:avLst>
              <a:gd name="adj1" fmla="val -45013"/>
              <a:gd name="adj2" fmla="val 176189"/>
            </a:avLst>
          </a:prstGeom>
          <a:solidFill>
            <a:srgbClr val="ffcc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lter out all multiples of 2 from sr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095880" y="3886200"/>
            <a:ext cx="2819520" cy="457200"/>
          </a:xfrm>
          <a:prstGeom prst="wedgeRectCallout">
            <a:avLst>
              <a:gd name="adj1" fmla="val -40203"/>
              <a:gd name="adj2" fmla="val 86111"/>
            </a:avLst>
          </a:prstGeom>
          <a:solidFill>
            <a:srgbClr val="ffcc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t the next pr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19" dur="1" fill="hold"/>
                                  <p:tgtEl>
                                    <p:spTgt spid="2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Viner Hand ITC"/>
              </a:rPr>
              <a:t>Acknowledgment</a:t>
            </a: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87" name=""/>
          <p:cNvSpPr/>
          <p:nvPr/>
        </p:nvSpPr>
        <p:spPr>
          <a:xfrm>
            <a:off x="1985400" y="2819520"/>
            <a:ext cx="506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obert “Corky” Cartwright, J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ice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410080" y="3352680"/>
            <a:ext cx="3200400" cy="1600200"/>
          </a:xfrm>
          <a:prstGeom prst="cloudCallout">
            <a:avLst>
              <a:gd name="adj1" fmla="val -67412"/>
              <a:gd name="adj2" fmla="val 515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bject-ori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zy evaluati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895480" y="4572000"/>
            <a:ext cx="1752840" cy="17524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219320" y="1676520"/>
            <a:ext cx="4190760" cy="825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393" y="2968"/>
                </a:moveTo>
                <a:lnTo>
                  <a:pt x="-1677" y="2968"/>
                </a:lnTo>
                <a:lnTo>
                  <a:pt x="-1677" y="25310"/>
                </a:lnTo>
                <a:lnTo>
                  <a:pt x="3794" y="32023"/>
                </a:lnTo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heme-like Java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 the Sieve of Eratosthe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Viner Hand ITC"/>
              </a:rPr>
              <a:t>Acid Test</a:t>
            </a: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92" name=""/>
          <p:cNvSpPr/>
          <p:nvPr/>
        </p:nvSpPr>
        <p:spPr>
          <a:xfrm>
            <a:off x="264600" y="1679760"/>
            <a:ext cx="3934440" cy="459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445" y="5290"/>
                </a:moveTo>
                <a:lnTo>
                  <a:pt x="-463" y="5290"/>
                </a:lnTo>
                <a:lnTo>
                  <a:pt x="-463" y="23143"/>
                </a:lnTo>
                <a:lnTo>
                  <a:pt x="10840" y="41679"/>
                </a:lnTo>
              </a:path>
              <a:path w="21600" h="21600">
                <a:moveTo>
                  <a:pt x="-445" y="0"/>
                </a:moveTo>
                <a:lnTo>
                  <a:pt x="-445" y="21600"/>
                </a:lnTo>
              </a:path>
            </a:pathLst>
          </a:custGeom>
          <a:solidFill>
            <a:srgbClr val="3366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ke the existing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05520" y="1143000"/>
            <a:ext cx="3429000" cy="990720"/>
          </a:xfrm>
          <a:prstGeom prst="cloudCallout">
            <a:avLst>
              <a:gd name="adj1" fmla="val -71759"/>
              <a:gd name="adj2" fmla="val 44388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d Lazy Eval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80880" y="2246400"/>
            <a:ext cx="8001000" cy="44067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6095880" y="4267080"/>
            <a:ext cx="2210040" cy="1447920"/>
          </a:xfrm>
          <a:prstGeom prst="cloudCallout">
            <a:avLst>
              <a:gd name="adj1" fmla="val 49638"/>
              <a:gd name="adj2" fmla="val -217212"/>
            </a:avLst>
          </a:prstGeom>
          <a:solidFill>
            <a:srgbClr val="cc99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ith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compi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80880" y="1641600"/>
            <a:ext cx="8458200" cy="465912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imes New Roman"/>
              </a:rPr>
              <a:t>LRS</a:t>
            </a:r>
            <a:r>
              <a:rPr b="1" lang="en-US" sz="4000" spc="-1" strike="noStrike">
                <a:solidFill>
                  <a:srgbClr val="0000cc"/>
                </a:solidFill>
                <a:latin typeface="Viner Hand ITC"/>
              </a:rPr>
              <a:t> Framework</a:t>
            </a: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98" name=""/>
          <p:cNvSpPr/>
          <p:nvPr/>
        </p:nvSpPr>
        <p:spPr>
          <a:xfrm>
            <a:off x="4191120" y="6064560"/>
            <a:ext cx="479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olymorphism directs control flow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374840" y="3745440"/>
            <a:ext cx="3568680" cy="398880"/>
          </a:xfrm>
          <a:prstGeom prst="borderCallout2">
            <a:avLst>
              <a:gd name="adj1" fmla="val 18750"/>
              <a:gd name="adj2" fmla="val -8333"/>
              <a:gd name="adj3" fmla="val 27069"/>
              <a:gd name="adj4" fmla="val -4972"/>
              <a:gd name="adj5" fmla="val -61856"/>
              <a:gd name="adj6" fmla="val -5282"/>
            </a:avLst>
          </a:prstGeom>
          <a:solidFill>
            <a:srgbClr val="00ff00">
              <a:alpha val="50000"/>
            </a:srgbClr>
          </a:solidFill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ate.execute (algo, input, thi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590440" y="4624920"/>
            <a:ext cx="3355200" cy="398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083" y="5847"/>
                </a:moveTo>
                <a:lnTo>
                  <a:pt x="22163" y="5847"/>
                </a:lnTo>
                <a:lnTo>
                  <a:pt x="22163" y="34268"/>
                </a:lnTo>
                <a:lnTo>
                  <a:pt x="13200" y="65969"/>
                </a:lnTo>
              </a:path>
            </a:pathLst>
          </a:custGeom>
          <a:solidFill>
            <a:srgbClr val="00ff00">
              <a:alpha val="50000"/>
            </a:srgbClr>
          </a:solidFill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go.nullCase (owner, input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1143000"/>
            <a:ext cx="4419720" cy="457200"/>
          </a:xfrm>
          <a:prstGeom prst="wedgeRoundRectCallout">
            <a:avLst>
              <a:gd name="adj1" fmla="val 3199"/>
              <a:gd name="adj2" fmla="val 113888"/>
              <a:gd name="adj3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legates all requests to st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114800" y="1676520"/>
            <a:ext cx="4800600" cy="14587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5110200" y="4050000"/>
            <a:ext cx="3809520" cy="398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031" y="5847"/>
                </a:moveTo>
                <a:lnTo>
                  <a:pt x="22641" y="5847"/>
                </a:lnTo>
                <a:lnTo>
                  <a:pt x="22641" y="-19083"/>
                </a:lnTo>
                <a:lnTo>
                  <a:pt x="15081" y="-47485"/>
                </a:lnTo>
              </a:path>
            </a:pathLst>
          </a:custGeom>
          <a:solidFill>
            <a:srgbClr val="00ff00">
              <a:alpha val="50000"/>
            </a:srgbClr>
          </a:solidFill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go.nonNullCase (owner, input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800600" y="1676520"/>
            <a:ext cx="3276720" cy="1066680"/>
          </a:xfrm>
          <a:prstGeom prst="foldedCorner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ate Patte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3962520"/>
            <a:ext cx="2971800" cy="1295280"/>
          </a:xfrm>
          <a:prstGeom prst="foldedCorner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isitor Patte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Viner Hand ITC"/>
              </a:rPr>
              <a:t>Lazy Evaluation</a:t>
            </a: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Example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elay computation of rest until it is needed.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cept all requests involving res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mpute what is needed and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only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what has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not yet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been evaluat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53352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Viner Hand ITC"/>
              </a:rPr>
              <a:t>Intercept request at the sta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28600" y="1676520"/>
            <a:ext cx="7315200" cy="942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 rot="180600">
            <a:off x="914040" y="4723920"/>
            <a:ext cx="1433520" cy="1062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1283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eval?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228600" y="2514600"/>
            <a:ext cx="8915400" cy="19908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3581280" y="2514600"/>
            <a:ext cx="4162680" cy="19242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2971800" y="4964040"/>
            <a:ext cx="4724280" cy="825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1948" y="2912"/>
                </a:moveTo>
                <a:lnTo>
                  <a:pt x="22725" y="2912"/>
                </a:lnTo>
                <a:lnTo>
                  <a:pt x="22725" y="-19011"/>
                </a:lnTo>
                <a:lnTo>
                  <a:pt x="21338" y="-23257"/>
                </a:lnTo>
              </a:path>
            </a:pathLst>
          </a:custGeom>
          <a:solidFill>
            <a:srgbClr val="ccffcc"/>
          </a:solidFill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Arial"/>
              </a:rPr>
              <a:t>eval(owne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 nnState.getRest(owne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59600" y="6018840"/>
            <a:ext cx="751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o change to existing code!  No recompilation is neede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14400" y="304920"/>
            <a:ext cx="6934320" cy="99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Viner Hand ITC"/>
              </a:rPr>
              <a:t>Decorator Pattern</a:t>
            </a: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52280" y="1752480"/>
            <a:ext cx="8820360" cy="29052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76720" y="228240"/>
            <a:ext cx="551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Viner Hand ITC"/>
              </a:rPr>
              <a:t>Evaluation Strategy</a:t>
            </a: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066680" y="152280"/>
            <a:ext cx="3886200" cy="3812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4799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 Recompilation!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152280" y="609480"/>
            <a:ext cx="2057400" cy="11430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62120" y="4343400"/>
            <a:ext cx="4114800" cy="15811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4876920" y="3809880"/>
            <a:ext cx="1904760" cy="22860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876920" y="3626280"/>
            <a:ext cx="3962160" cy="3231720"/>
            <a:chOff x="4876920" y="3626280"/>
            <a:chExt cx="3962160" cy="3231720"/>
          </a:xfrm>
        </p:grpSpPr>
        <p:grpSp>
          <p:nvGrpSpPr>
            <p:cNvPr id="124" name=""/>
            <p:cNvGrpSpPr/>
            <p:nvPr/>
          </p:nvGrpSpPr>
          <p:grpSpPr>
            <a:xfrm>
              <a:off x="7027560" y="4628160"/>
              <a:ext cx="1811520" cy="2229840"/>
              <a:chOff x="7027560" y="4628160"/>
              <a:chExt cx="1811520" cy="2229840"/>
            </a:xfrm>
          </p:grpSpPr>
          <p:sp>
            <p:nvSpPr>
              <p:cNvPr id="125" name=""/>
              <p:cNvSpPr/>
              <p:nvPr/>
            </p:nvSpPr>
            <p:spPr>
              <a:xfrm rot="2700000">
                <a:off x="7617240" y="4472640"/>
                <a:ext cx="304560" cy="1795320"/>
              </a:xfrm>
              <a:custGeom>
                <a:avLst/>
                <a:gdLst>
                  <a:gd name="textAreaLeft" fmla="*/ 0 w 304560"/>
                  <a:gd name="textAreaRight" fmla="*/ 109800 w 304560"/>
                  <a:gd name="textAreaTop" fmla="*/ 46800 h 1795320"/>
                  <a:gd name="textAreaBottom" fmla="*/ 1748520 h 1795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507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 txBox="1"/>
              <p:nvPr/>
            </p:nvSpPr>
            <p:spPr>
              <a:xfrm>
                <a:off x="7543800" y="5086440"/>
                <a:ext cx="1295280" cy="177156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SlantUp">
                  <a:avLst>
                    <a:gd name="adj" fmla="val 46236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cc"/>
                    </a:solidFill>
                    <a:latin typeface="Arial Black"/>
                  </a:rPr>
                  <a:t>strategy</a:t>
                </a:r>
                <a:endPara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cc"/>
                  </a:solidFill>
                  <a:latin typeface="Arial Black"/>
                  <a:ea typeface="Arial Black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cc"/>
                    </a:solidFill>
                    <a:latin typeface="Arial Black"/>
                  </a:rPr>
                  <a:t>pattern</a:t>
                </a:r>
                <a:endPara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cc"/>
                  </a:solidFill>
                  <a:latin typeface="Arial Black"/>
                  <a:ea typeface="Arial Black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4876920" y="3626280"/>
              <a:ext cx="2238120" cy="2298240"/>
              <a:chOff x="4876920" y="3626280"/>
              <a:chExt cx="2238120" cy="2298240"/>
            </a:xfrm>
          </p:grpSpPr>
          <p:pic>
            <p:nvPicPr>
              <p:cNvPr id="12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876920" y="4572000"/>
                <a:ext cx="2238120" cy="1352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" name=""/>
              <p:cNvSpPr/>
              <p:nvPr/>
            </p:nvSpPr>
            <p:spPr>
              <a:xfrm>
                <a:off x="4876920" y="3626280"/>
                <a:ext cx="1938240" cy="520200"/>
              </a:xfrm>
              <a:prstGeom prst="rect">
                <a:avLst/>
              </a:prstGeom>
              <a:solidFill>
                <a:srgbClr val="800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66ffff"/>
                    </a:solidFill>
                    <a:latin typeface="Arial"/>
                  </a:rPr>
                  <a:t>-lazyEval: ALazyEva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0" name=""/>
          <p:cNvSpPr/>
          <p:nvPr/>
        </p:nvSpPr>
        <p:spPr>
          <a:xfrm>
            <a:off x="2209680" y="5835960"/>
            <a:ext cx="479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olymorphism directs control flow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29840" y="5864400"/>
            <a:ext cx="16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3300"/>
                </a:solidFill>
                <a:latin typeface="Times New Roman"/>
              </a:rPr>
              <a:t>Run animation`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176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533520" y="533520"/>
            <a:ext cx="76197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Viner Hand ITC"/>
              </a:rPr>
              <a:t>How do I make a Lazy Lis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33200" y="2590920"/>
            <a:ext cx="9010800" cy="34574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6629400" y="1905120"/>
            <a:ext cx="2381400" cy="162864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4648320" y="3352680"/>
            <a:ext cx="2152440" cy="2192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1447920" y="2590920"/>
            <a:ext cx="1981080" cy="380880"/>
          </a:xfrm>
          <a:prstGeom prst="wedgeRoundRectCallout">
            <a:avLst>
              <a:gd name="adj1" fmla="val 105527"/>
              <a:gd name="adj2" fmla="val 144583"/>
              <a:gd name="adj3" fmla="val 16667"/>
            </a:avLst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actory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5334120" y="2895480"/>
            <a:ext cx="3247920" cy="2192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5"/>
          <a:stretch/>
        </p:blipFill>
        <p:spPr>
          <a:xfrm>
            <a:off x="6324480" y="1905120"/>
            <a:ext cx="1247760" cy="14000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6"/>
          <a:stretch/>
        </p:blipFill>
        <p:spPr>
          <a:xfrm>
            <a:off x="5638680" y="5781600"/>
            <a:ext cx="3248280" cy="1076400"/>
          </a:xfrm>
          <a:prstGeom prst="rect">
            <a:avLst/>
          </a:prstGeom>
          <a:ln w="0">
            <a:noFill/>
          </a:ln>
        </p:spPr>
      </p:pic>
      <p:grpSp>
        <p:nvGrpSpPr>
          <p:cNvPr id="140" name=""/>
          <p:cNvGrpSpPr/>
          <p:nvPr/>
        </p:nvGrpSpPr>
        <p:grpSpPr>
          <a:xfrm>
            <a:off x="152280" y="1676520"/>
            <a:ext cx="7925040" cy="2124000"/>
            <a:chOff x="152280" y="1676520"/>
            <a:chExt cx="7925040" cy="2124000"/>
          </a:xfrm>
        </p:grpSpPr>
        <p:pic>
          <p:nvPicPr>
            <p:cNvPr id="141" name="" descr=""/>
            <p:cNvPicPr/>
            <p:nvPr/>
          </p:nvPicPr>
          <p:blipFill>
            <a:blip r:embed="rId7"/>
            <a:stretch/>
          </p:blipFill>
          <p:spPr>
            <a:xfrm>
              <a:off x="152280" y="1676520"/>
              <a:ext cx="4476960" cy="19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" descr=""/>
            <p:cNvPicPr/>
            <p:nvPr/>
          </p:nvPicPr>
          <p:blipFill>
            <a:blip r:embed="rId8"/>
            <a:stretch/>
          </p:blipFill>
          <p:spPr>
            <a:xfrm>
              <a:off x="4648320" y="3581280"/>
              <a:ext cx="3429000" cy="219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3" name=""/>
          <p:cNvSpPr/>
          <p:nvPr/>
        </p:nvSpPr>
        <p:spPr>
          <a:xfrm>
            <a:off x="4648320" y="5713920"/>
            <a:ext cx="4190760" cy="30708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LazyNonNullState (dat Object, lazy: ALazyE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09480" y="457200"/>
            <a:ext cx="762012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26668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Viner Hand ITC"/>
              </a:rPr>
              <a:t>Factory</a:t>
            </a: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9"/>
          <a:stretch/>
        </p:blipFill>
        <p:spPr>
          <a:xfrm>
            <a:off x="4162320" y="1143000"/>
            <a:ext cx="4981680" cy="1467000"/>
          </a:xfrm>
          <a:prstGeom prst="rect">
            <a:avLst/>
          </a:prstGeom>
          <a:ln w="0">
            <a:noFill/>
          </a:ln>
        </p:spPr>
      </p:pic>
      <p:grpSp>
        <p:nvGrpSpPr>
          <p:cNvPr id="147" name=""/>
          <p:cNvGrpSpPr/>
          <p:nvPr/>
        </p:nvGrpSpPr>
        <p:grpSpPr>
          <a:xfrm>
            <a:off x="3960000" y="-1080"/>
            <a:ext cx="4969080" cy="1067760"/>
            <a:chOff x="3960000" y="-1080"/>
            <a:chExt cx="4969080" cy="1067760"/>
          </a:xfrm>
        </p:grpSpPr>
        <p:sp>
          <p:nvSpPr>
            <p:cNvPr id="148" name=""/>
            <p:cNvSpPr/>
            <p:nvPr/>
          </p:nvSpPr>
          <p:spPr>
            <a:xfrm rot="5400000">
              <a:off x="6197040" y="-609480"/>
              <a:ext cx="380880" cy="2971800"/>
            </a:xfrm>
            <a:custGeom>
              <a:avLst/>
              <a:gdLst>
                <a:gd name="textAreaLeft" fmla="*/ 243360 w 380880"/>
                <a:gd name="textAreaRight" fmla="*/ 381240 w 380880"/>
                <a:gd name="textAreaTop" fmla="*/ 77400 h 2971800"/>
                <a:gd name="textAreaBottom" fmla="*/ 2894400 h 297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solidFill>
              <a:srgbClr val="c0c0c0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960000" y="-1080"/>
              <a:ext cx="4969080" cy="70380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ompute the data, then cal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3300"/>
                  </a:solidFill>
                  <a:latin typeface="Arial"/>
                </a:rPr>
                <a:t>makeLazyLRS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to manufacture  a lazy L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4191120" y="1143000"/>
            <a:ext cx="1371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715000" y="1143000"/>
            <a:ext cx="1600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543800" y="1143000"/>
            <a:ext cx="1600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3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81080" y="3124080"/>
            <a:ext cx="8962920" cy="359100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Viner Hand ITC"/>
              </a:rPr>
              <a:t>Invariant vs. Variant</a:t>
            </a: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762120" y="5029200"/>
            <a:ext cx="2228760" cy="9921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75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 Black"/>
              </a:rPr>
              <a:t>Invarian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762120" y="1828800"/>
            <a:ext cx="1600200" cy="8319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eflateBottom">
              <a:avLst>
                <a:gd name="adj" fmla="val 7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Varian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2514600" y="1371600"/>
            <a:ext cx="6486480" cy="173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7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500"/>
                            </p:stCondLst>
                            <p:childTnLst>
                              <p:par>
                                <p:cTn id="275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04:35:30Z</dcterms:created>
  <dc:creator>DXN</dc:creator>
  <dc:description/>
  <dc:language>en-US</dc:language>
  <cp:lastModifiedBy>Stephen Wong</cp:lastModifiedBy>
  <cp:lastPrinted>2000-01-11T06:33:51Z</cp:lastPrinted>
  <dcterms:modified xsi:type="dcterms:W3CDTF">2004-05-29T05:55:39Z</dcterms:modified>
  <cp:revision>173</cp:revision>
  <dc:subject/>
  <dc:title>Design Patterns for Lazy Evaluation</dc:title>
</cp:coreProperties>
</file>