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2810-1997-4C0C-8951-C9CACCE6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D75-6A2C-4675-AE4E-4FC7F01A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299D-779F-4FB3-9E59-91216774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469-14E4-4A58-B95A-3927C6C7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093A-C621-4A6C-A287-D7E6F053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14B4-6408-41BE-8E3E-17CD3CE3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258F-F0FF-4F76-971E-A3D6F93A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7016-EE33-4F70-88A6-C5E3CB86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EF47-5BFD-4BD7-B737-18090E68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F494-8B26-426A-80DB-16F58F7D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BAF5-A07F-4101-80D1-8E385BFC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5C31-6756-49A6-8458-B27078FF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686C-F879-4578-8374-6F6FFCBC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41D2-B033-4FD9-99B0-EC7B0104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00A2-CEC7-475F-ACB4-497A21CF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ADB2-308C-446C-A5D6-E8D2C34C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19A8-4446-4333-8CAE-5D481661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DEA3-19A6-43A9-B293-9C3B671F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714B-1AEC-4AA7-B06F-A8E9EE51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A52-7C25-4787-905A-D092ED16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4405-AAFC-4F6B-AF56-D6719585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0F3-00C5-48FE-BE99-EE93462D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2661-97CF-44A9-9BD7-D663BF34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105D-FDC9-428D-AF84-43E9BC33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A692-A281-4F18-9447-9F6E960D3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DE98-4557-43F9-ACEA-AD5B86C97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5.png"/><Relationship Id="rId2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88520"/>
            <a:ext cx="62481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Design Patterns for Self-Balancing Tree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ng “Zung” Nguy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hen W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c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26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TreeN and Algorithm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34" name=""/>
          <p:cNvSpPr/>
          <p:nvPr/>
        </p:nvSpPr>
        <p:spPr>
          <a:xfrm>
            <a:off x="143352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ntree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28600" y="1981080"/>
            <a:ext cx="8686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toString() Algorithm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37" name=""/>
          <p:cNvSpPr/>
          <p:nvPr/>
        </p:nvSpPr>
        <p:spPr>
          <a:xfrm>
            <a:off x="-74520" y="784080"/>
            <a:ext cx="8454960" cy="5730120"/>
          </a:xfrm>
          <a:prstGeom prst="wedgeRoundRectCallout">
            <a:avLst>
              <a:gd name="adj1" fmla="val -43523"/>
              <a:gd name="adj2" fmla="val 6984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class ToStringAlgo implements ITreeNAlg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Constructors o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Object caseAt(int idx, TreeN host, Object key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switch(idx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case 0: {  return "[ ]";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default: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String sData= "", sTrees="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for(int i = 0;i&lt;idx;i++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sData += host.getDat(i)+" 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sTrees += host.getChild(i).execute(toStringHelp,"|  ")+"\n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sTrees += host.getChild(idx).execute(toStringHelp,"   ").toString(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return sData +"\n"+sTrees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ITreeNAlgo toStringHelp =  …see next slide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19720" y="1752480"/>
            <a:ext cx="2361960" cy="533520"/>
          </a:xfrm>
          <a:prstGeom prst="wedgeRoundRectCallout">
            <a:avLst>
              <a:gd name="adj1" fmla="val -92337"/>
              <a:gd name="adj2" fmla="val 95236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Empt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2514600"/>
            <a:ext cx="3200400" cy="533520"/>
          </a:xfrm>
          <a:prstGeom prst="wedgeRoundRectCallout">
            <a:avLst>
              <a:gd name="adj1" fmla="val -69148"/>
              <a:gd name="adj2" fmla="val 43750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Non-Empt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43600" y="3162240"/>
            <a:ext cx="3200400" cy="533520"/>
          </a:xfrm>
          <a:prstGeom prst="wedgeRoundRectCallout">
            <a:avLst>
              <a:gd name="adj1" fmla="val -34226"/>
              <a:gd name="adj2" fmla="val 76787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Prefix”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ToString() Helper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42" name=""/>
          <p:cNvSpPr/>
          <p:nvPr/>
        </p:nvSpPr>
        <p:spPr>
          <a:xfrm>
            <a:off x="213840" y="1219320"/>
            <a:ext cx="815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vate final static ITreeNAlgo toStringHelp = new ITreeNAlgo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public Object caseAt(int idx, TreeN host, Object prefix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switch(idx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case 0: {  return "|_[ ]";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default: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String sData= "", sTrees="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for(int i = 0;i&lt;idx;i++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sData += host.getDat(i)+" 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sTrees += pref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 (String) host.getChild(i).execute(this, prefix+"|  ")+"\n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sTrees += pref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 host.getChild(idx).execute(this, prefix+"   " ).toString(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return "|_ "+sData +"\n"+sTrees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1447920"/>
            <a:ext cx="2362320" cy="533160"/>
          </a:xfrm>
          <a:prstGeom prst="wedgeRoundRectCallout">
            <a:avLst>
              <a:gd name="adj1" fmla="val -92337"/>
              <a:gd name="adj2" fmla="val 95236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Empt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76920" y="2209680"/>
            <a:ext cx="3200400" cy="533520"/>
          </a:xfrm>
          <a:prstGeom prst="wedgeRoundRectCallout">
            <a:avLst>
              <a:gd name="adj1" fmla="val -69148"/>
              <a:gd name="adj2" fmla="val 43750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Non-Empt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91320" y="2895480"/>
            <a:ext cx="3200400" cy="533520"/>
          </a:xfrm>
          <a:prstGeom prst="wedgeRoundRectCallout">
            <a:avLst>
              <a:gd name="adj1" fmla="val -20782"/>
              <a:gd name="adj2" fmla="val 106546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Prefix”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56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Vertical Data Transport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80880" y="1828800"/>
            <a:ext cx="7162920" cy="3733920"/>
            <a:chOff x="380880" y="1828800"/>
            <a:chExt cx="7162920" cy="3733920"/>
          </a:xfrm>
        </p:grpSpPr>
        <p:grpSp>
          <p:nvGrpSpPr>
            <p:cNvPr id="448" name=""/>
            <p:cNvGrpSpPr/>
            <p:nvPr/>
          </p:nvGrpSpPr>
          <p:grpSpPr>
            <a:xfrm>
              <a:off x="380880" y="1828800"/>
              <a:ext cx="2028960" cy="2489040"/>
              <a:chOff x="380880" y="1828800"/>
              <a:chExt cx="2028960" cy="2489040"/>
            </a:xfrm>
          </p:grpSpPr>
          <p:sp>
            <p:nvSpPr>
              <p:cNvPr id="449" name=""/>
              <p:cNvSpPr/>
              <p:nvPr/>
            </p:nvSpPr>
            <p:spPr>
              <a:xfrm>
                <a:off x="85824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21608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7428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0004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93248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00040" y="2268000"/>
                <a:ext cx="1790280" cy="3657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395000" y="1828800"/>
                <a:ext cx="0" cy="43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455120" y="3512520"/>
                <a:ext cx="238680" cy="3661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574280" y="3072960"/>
                <a:ext cx="0" cy="43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738720" y="3072960"/>
                <a:ext cx="238680" cy="1244520"/>
                <a:chOff x="738720" y="3072960"/>
                <a:chExt cx="238680" cy="124452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738720" y="3512160"/>
                  <a:ext cx="23868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578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38720" y="3878280"/>
                  <a:ext cx="238680" cy="43920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380880" y="3072960"/>
                <a:ext cx="238680" cy="1244520"/>
                <a:chOff x="380880" y="3072960"/>
                <a:chExt cx="238680" cy="124452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380880" y="3512160"/>
                  <a:ext cx="23868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0004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80880" y="3878280"/>
                  <a:ext cx="238680" cy="43920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1812960" y="3072960"/>
                <a:ext cx="238680" cy="1244520"/>
                <a:chOff x="1812960" y="3072960"/>
                <a:chExt cx="238680" cy="12445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1812960" y="3512160"/>
                  <a:ext cx="23868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93212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812960" y="3878280"/>
                  <a:ext cx="238680" cy="43920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171160" y="3072960"/>
                <a:ext cx="238680" cy="1244520"/>
                <a:chOff x="2171160" y="3072960"/>
                <a:chExt cx="238680" cy="12445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2171160" y="3512160"/>
                  <a:ext cx="23868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29032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171160" y="3878280"/>
                  <a:ext cx="238680" cy="4392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1096920" y="3072960"/>
                <a:ext cx="238680" cy="1244520"/>
                <a:chOff x="1096920" y="3072960"/>
                <a:chExt cx="238680" cy="12445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096920" y="3512160"/>
                  <a:ext cx="23868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2160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096920" y="3878280"/>
                  <a:ext cx="238680" cy="43920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1455120" y="3878640"/>
                <a:ext cx="238680" cy="439200"/>
                <a:chOff x="1455120" y="3878640"/>
                <a:chExt cx="238680" cy="4392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1455120" y="3878640"/>
                  <a:ext cx="59400" cy="43920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634040" y="3878640"/>
                  <a:ext cx="59760" cy="43920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514520" y="3878640"/>
                  <a:ext cx="119160" cy="43920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2" name=""/>
            <p:cNvGrpSpPr/>
            <p:nvPr/>
          </p:nvGrpSpPr>
          <p:grpSpPr>
            <a:xfrm>
              <a:off x="2768760" y="1828800"/>
              <a:ext cx="2028240" cy="3733920"/>
              <a:chOff x="2768760" y="1828800"/>
              <a:chExt cx="2028240" cy="373392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3723120" y="4318200"/>
                <a:ext cx="214560" cy="1244520"/>
                <a:chOff x="3723120" y="4318200"/>
                <a:chExt cx="214560" cy="12445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3723120" y="4757400"/>
                  <a:ext cx="214560" cy="365760"/>
                </a:xfrm>
                <a:prstGeom prst="triangle">
                  <a:avLst>
                    <a:gd name="adj" fmla="val 58685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842280" y="431820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723120" y="5123520"/>
                  <a:ext cx="214560" cy="43920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3985920" y="4318200"/>
                <a:ext cx="214560" cy="1244520"/>
                <a:chOff x="3985920" y="4318200"/>
                <a:chExt cx="214560" cy="12445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3985920" y="4757400"/>
                  <a:ext cx="214560" cy="365760"/>
                </a:xfrm>
                <a:prstGeom prst="triangle">
                  <a:avLst>
                    <a:gd name="adj" fmla="val 44403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081320" y="431820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985920" y="5123520"/>
                  <a:ext cx="214560" cy="4392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1" name=""/>
              <p:cNvSpPr/>
              <p:nvPr/>
            </p:nvSpPr>
            <p:spPr>
              <a:xfrm>
                <a:off x="324576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60396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96180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88792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32000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887920" y="2268000"/>
                <a:ext cx="1789920" cy="3657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782880" y="1828800"/>
                <a:ext cx="0" cy="43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842640" y="3512520"/>
                <a:ext cx="238320" cy="3661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961800" y="3073320"/>
                <a:ext cx="0" cy="43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" name=""/>
              <p:cNvGrpSpPr/>
              <p:nvPr/>
            </p:nvGrpSpPr>
            <p:grpSpPr>
              <a:xfrm>
                <a:off x="3126600" y="3073320"/>
                <a:ext cx="238320" cy="1244520"/>
                <a:chOff x="3126600" y="3073320"/>
                <a:chExt cx="238320" cy="12445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3126600" y="3512520"/>
                  <a:ext cx="23832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245760" y="307332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126600" y="3878640"/>
                  <a:ext cx="238320" cy="43920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2768760" y="3073320"/>
                <a:ext cx="238320" cy="1244520"/>
                <a:chOff x="2768760" y="3073320"/>
                <a:chExt cx="238320" cy="12445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2768760" y="3512520"/>
                  <a:ext cx="23832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887920" y="307332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768760" y="3878640"/>
                  <a:ext cx="238320" cy="43920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4200480" y="3073320"/>
                <a:ext cx="238320" cy="1244520"/>
                <a:chOff x="4200480" y="3073320"/>
                <a:chExt cx="238320" cy="124452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4200480" y="3512520"/>
                  <a:ext cx="23832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319640" y="307332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200480" y="3878640"/>
                  <a:ext cx="238320" cy="439200"/>
                </a:xfrm>
                <a:prstGeom prst="rect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4558680" y="3073320"/>
                <a:ext cx="238320" cy="1244520"/>
                <a:chOff x="4558680" y="3073320"/>
                <a:chExt cx="238320" cy="12445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4558680" y="3512520"/>
                  <a:ext cx="23832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677840" y="307332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558680" y="3878640"/>
                  <a:ext cx="238320" cy="439200"/>
                </a:xfrm>
                <a:prstGeom prst="rect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3484440" y="3073320"/>
                <a:ext cx="238320" cy="1244520"/>
                <a:chOff x="3484440" y="3073320"/>
                <a:chExt cx="238320" cy="12445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3484440" y="3512520"/>
                  <a:ext cx="23832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603600" y="307332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484440" y="3878640"/>
                  <a:ext cx="238320" cy="43920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3842640" y="3878640"/>
                <a:ext cx="238320" cy="43920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5156280" y="1828800"/>
              <a:ext cx="2387520" cy="2488680"/>
              <a:chOff x="5156280" y="1828800"/>
              <a:chExt cx="2387520" cy="2488680"/>
            </a:xfrm>
          </p:grpSpPr>
          <p:sp>
            <p:nvSpPr>
              <p:cNvPr id="522" name=""/>
              <p:cNvSpPr/>
              <p:nvPr/>
            </p:nvSpPr>
            <p:spPr>
              <a:xfrm>
                <a:off x="563364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99184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0824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27544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066080" y="2633760"/>
                <a:ext cx="357840" cy="43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5872320" y="3072960"/>
                <a:ext cx="238680" cy="1244520"/>
                <a:chOff x="5872320" y="3072960"/>
                <a:chExt cx="238680" cy="12445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5872320" y="3512160"/>
                  <a:ext cx="23868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9914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872320" y="3878280"/>
                  <a:ext cx="238680" cy="439200"/>
                </a:xfrm>
                <a:prstGeom prst="rect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5514120" y="3072960"/>
                <a:ext cx="238680" cy="1244520"/>
                <a:chOff x="5514120" y="3072960"/>
                <a:chExt cx="238680" cy="124452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5514120" y="3512160"/>
                  <a:ext cx="23868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56332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514120" y="3878280"/>
                  <a:ext cx="238680" cy="439200"/>
                </a:xfrm>
                <a:prstGeom prst="rect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6946920" y="3072960"/>
                <a:ext cx="238680" cy="1244520"/>
                <a:chOff x="6946920" y="3072960"/>
                <a:chExt cx="238680" cy="124452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946920" y="3512160"/>
                  <a:ext cx="23868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0660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946920" y="3878280"/>
                  <a:ext cx="238680" cy="439200"/>
                </a:xfrm>
                <a:prstGeom prst="rect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7305120" y="3072960"/>
                <a:ext cx="238680" cy="1244520"/>
                <a:chOff x="7305120" y="3072960"/>
                <a:chExt cx="238680" cy="124452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7305120" y="3512160"/>
                  <a:ext cx="23868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4242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305120" y="3878280"/>
                  <a:ext cx="238680" cy="439200"/>
                </a:xfrm>
                <a:prstGeom prst="rect">
                  <a:avLst/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>
                <a:off x="5275440" y="2268000"/>
                <a:ext cx="2148840" cy="3657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350040" y="1828800"/>
                <a:ext cx="0" cy="43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350040" y="2633760"/>
                <a:ext cx="357840" cy="43920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6230520" y="3072960"/>
                <a:ext cx="238680" cy="1244520"/>
                <a:chOff x="6230520" y="3072960"/>
                <a:chExt cx="238680" cy="12445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6230520" y="3512160"/>
                  <a:ext cx="23868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3496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230520" y="3878280"/>
                  <a:ext cx="238680" cy="439200"/>
                </a:xfrm>
                <a:prstGeom prst="rect">
                  <a:avLst/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6588720" y="3072960"/>
                <a:ext cx="238680" cy="1244520"/>
                <a:chOff x="6588720" y="3072960"/>
                <a:chExt cx="238680" cy="124452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6588720" y="3512160"/>
                  <a:ext cx="238680" cy="36612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70788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588720" y="3878280"/>
                  <a:ext cx="238680" cy="439200"/>
                </a:xfrm>
                <a:prstGeom prst="rect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156280" y="3072960"/>
                <a:ext cx="238680" cy="1244520"/>
                <a:chOff x="5156280" y="3072960"/>
                <a:chExt cx="238680" cy="12445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56280" y="3512160"/>
                  <a:ext cx="238680" cy="3657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275440" y="3072960"/>
                  <a:ext cx="0" cy="43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156280" y="3878280"/>
                  <a:ext cx="238680" cy="439200"/>
                </a:xfrm>
                <a:prstGeom prst="rect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8" name=""/>
            <p:cNvSpPr/>
            <p:nvPr/>
          </p:nvSpPr>
          <p:spPr>
            <a:xfrm>
              <a:off x="1514520" y="4537080"/>
              <a:ext cx="2328840" cy="366840"/>
            </a:xfrm>
            <a:custGeom>
              <a:avLst/>
              <a:gdLst>
                <a:gd name="textAreaLeft" fmla="*/ 457200 w 2328840"/>
                <a:gd name="textAreaRight" fmla="*/ 1613520 w 2328840"/>
                <a:gd name="textAreaTop" fmla="*/ 48960 h 366840"/>
                <a:gd name="textAreaBottom" fmla="*/ 31788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485" hR="21600" stAng="10800000" swAng="-5400000"/>
                  <a:lnTo>
                    <a:pt x="10724" y="21600"/>
                  </a:lnTo>
                  <a:arcTo wR="8485" hR="21600" stAng="5400000" swAng="-1805415"/>
                  <a:lnTo>
                    <a:pt x="20138" y="12120"/>
                  </a:lnTo>
                  <a:lnTo>
                    <a:pt x="18089" y="0"/>
                  </a:lnTo>
                  <a:lnTo>
                    <a:pt x="13115" y="12120"/>
                  </a:lnTo>
                  <a:lnTo>
                    <a:pt x="15507" y="12120"/>
                  </a:lnTo>
                  <a:arcTo wR="8485" hR="21600" stAng="3594585" swAng="1625833"/>
                  <a:lnTo>
                    <a:pt x="9604" y="21411"/>
                  </a:lnTo>
                  <a:arcTo wR="8485" hR="21600" stAng="5579582" swAng="5220418"/>
                  <a:close/>
                </a:path>
                <a:path fill="darkenLess" w="21600" h="21600">
                  <a:moveTo>
                    <a:pt x="0" y="0"/>
                  </a:moveTo>
                  <a:arcTo wR="8485" hR="21600" stAng="10800000" swAng="-5400000"/>
                  <a:lnTo>
                    <a:pt x="10724" y="21600"/>
                  </a:lnTo>
                  <a:arcTo wR="8485" hR="21600" stAng="5400000" swAng="179582"/>
                  <a:lnTo>
                    <a:pt x="9604" y="21411"/>
                  </a:lnTo>
                  <a:arcTo wR="8485" hR="21600" stAng="5579582" swAng="5220418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plit 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21080" y="4537080"/>
              <a:ext cx="2327400" cy="366840"/>
            </a:xfrm>
            <a:custGeom>
              <a:avLst/>
              <a:gdLst>
                <a:gd name="textAreaLeft" fmla="*/ 456840 w 2327400"/>
                <a:gd name="textAreaRight" fmla="*/ 1612800 w 2327400"/>
                <a:gd name="textAreaTop" fmla="*/ 48960 h 366840"/>
                <a:gd name="textAreaBottom" fmla="*/ 31788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485" hR="21600" stAng="10800000" swAng="-5400000"/>
                  <a:lnTo>
                    <a:pt x="10724" y="21600"/>
                  </a:lnTo>
                  <a:arcTo wR="8485" hR="21600" stAng="5400000" swAng="-1805415"/>
                  <a:lnTo>
                    <a:pt x="20138" y="12120"/>
                  </a:lnTo>
                  <a:lnTo>
                    <a:pt x="18089" y="0"/>
                  </a:lnTo>
                  <a:lnTo>
                    <a:pt x="13115" y="12120"/>
                  </a:lnTo>
                  <a:lnTo>
                    <a:pt x="15507" y="12120"/>
                  </a:lnTo>
                  <a:arcTo wR="8485" hR="21600" stAng="3594585" swAng="1625833"/>
                  <a:lnTo>
                    <a:pt x="9604" y="21411"/>
                  </a:lnTo>
                  <a:arcTo wR="8485" hR="21600" stAng="5579582" swAng="5220418"/>
                  <a:close/>
                </a:path>
                <a:path fill="darkenLess" w="21600" h="21600">
                  <a:moveTo>
                    <a:pt x="0" y="0"/>
                  </a:moveTo>
                  <a:arcTo wR="8485" hR="21600" stAng="10800000" swAng="-5400000"/>
                  <a:lnTo>
                    <a:pt x="10724" y="21600"/>
                  </a:lnTo>
                  <a:arcTo wR="8485" hR="21600" stAng="5400000" swAng="179582"/>
                  <a:lnTo>
                    <a:pt x="9604" y="21411"/>
                  </a:lnTo>
                  <a:arcTo wR="8485" hR="21600" stAng="5579582" swAng="5220418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pl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1370880" y="1836720"/>
              <a:ext cx="2319480" cy="563040"/>
            </a:xfrm>
            <a:custGeom>
              <a:avLst/>
              <a:gdLst>
                <a:gd name="textAreaLeft" fmla="*/ 442800 w 2319480"/>
                <a:gd name="textAreaRight" fmla="*/ 1601640 w 2319480"/>
                <a:gd name="textAreaTop" fmla="*/ 75240 h 563040"/>
                <a:gd name="textAreaBottom" fmla="*/ 487800 h 56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247" hR="21600" stAng="10800000" swAng="5400000"/>
                  <a:lnTo>
                    <a:pt x="10793" y="0"/>
                  </a:lnTo>
                  <a:arcTo wR="8247" hR="21600" stAng="-5400000" swAng="2054442"/>
                  <a:lnTo>
                    <a:pt x="20546" y="11033"/>
                  </a:lnTo>
                  <a:lnTo>
                    <a:pt x="17766" y="21600"/>
                  </a:lnTo>
                  <a:lnTo>
                    <a:pt x="12878" y="11033"/>
                  </a:lnTo>
                  <a:lnTo>
                    <a:pt x="15439" y="11033"/>
                  </a:lnTo>
                  <a:arcTo wR="8247" hR="21600" stAng="-3345558" swAng="-1849622"/>
                  <a:lnTo>
                    <a:pt x="9520" y="259"/>
                  </a:lnTo>
                  <a:arcTo wR="8247" hR="21600" stAng="-5604820" swAng="-5195180"/>
                  <a:close/>
                </a:path>
                <a:path fill="darkenLess" w="21600" h="21600">
                  <a:moveTo>
                    <a:pt x="0" y="21600"/>
                  </a:moveTo>
                  <a:arcTo wR="8247" hR="21600" stAng="10800000" swAng="5400000"/>
                  <a:lnTo>
                    <a:pt x="8247" y="0"/>
                  </a:lnTo>
                  <a:arcTo wR="8247" hR="21600" stAng="-5400000" swAng="204820"/>
                  <a:lnTo>
                    <a:pt x="9520" y="259"/>
                  </a:lnTo>
                  <a:arcTo wR="8247" hR="21600" stAng="-5604820" swAng="-519518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apse/Spl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3885480" y="1828800"/>
              <a:ext cx="2328840" cy="366840"/>
            </a:xfrm>
            <a:custGeom>
              <a:avLst/>
              <a:gdLst>
                <a:gd name="textAreaLeft" fmla="*/ 451800 w 2328840"/>
                <a:gd name="textAreaRight" fmla="*/ 1643400 w 2328840"/>
                <a:gd name="textAreaTop" fmla="*/ 48960 h 366840"/>
                <a:gd name="textAreaBottom" fmla="*/ 31788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90" hR="21600" stAng="10800000" swAng="5400000"/>
                  <a:lnTo>
                    <a:pt x="11050" y="0"/>
                  </a:lnTo>
                  <a:arcTo wR="8390" hR="21600" stAng="-5400000" swAng="2861453"/>
                  <a:lnTo>
                    <a:pt x="21120" y="14400"/>
                  </a:lnTo>
                  <a:lnTo>
                    <a:pt x="18110" y="21600"/>
                  </a:lnTo>
                  <a:lnTo>
                    <a:pt x="14140" y="14400"/>
                  </a:lnTo>
                  <a:lnTo>
                    <a:pt x="16300" y="14400"/>
                  </a:lnTo>
                  <a:arcTo wR="8390" hR="21600" stAng="-2538547" swAng="-2647343"/>
                  <a:lnTo>
                    <a:pt x="9720" y="273"/>
                  </a:lnTo>
                  <a:arcTo wR="8390" hR="21600" stAng="-5614110" swAng="-5185890"/>
                  <a:close/>
                </a:path>
                <a:path fill="darkenLess" w="21600" h="21600">
                  <a:moveTo>
                    <a:pt x="0" y="21600"/>
                  </a:moveTo>
                  <a:arcTo wR="8390" hR="21600" stAng="10800000" swAng="5400000"/>
                  <a:lnTo>
                    <a:pt x="8390" y="0"/>
                  </a:lnTo>
                  <a:arcTo wR="8390" hR="21600" stAng="-5400000" swAng="214110"/>
                  <a:lnTo>
                    <a:pt x="9720" y="273"/>
                  </a:lnTo>
                  <a:arcTo wR="8390" hR="21600" stAng="-5614110" swAng="-518589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plit-dow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04920" y="5715000"/>
            <a:ext cx="71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o net height change except at root and leav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738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Command Design Pattern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64" name=""/>
          <p:cNvSpPr/>
          <p:nvPr/>
        </p:nvSpPr>
        <p:spPr>
          <a:xfrm>
            <a:off x="1828800" y="1701720"/>
            <a:ext cx="35053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Object apply(Object in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304920" y="2463840"/>
            <a:ext cx="6629400" cy="1523880"/>
            <a:chOff x="304920" y="2463840"/>
            <a:chExt cx="6629400" cy="1523880"/>
          </a:xfrm>
        </p:grpSpPr>
        <p:sp>
          <p:nvSpPr>
            <p:cNvPr id="566" name=""/>
            <p:cNvSpPr/>
            <p:nvPr/>
          </p:nvSpPr>
          <p:spPr>
            <a:xfrm>
              <a:off x="304920" y="3378240"/>
              <a:ext cx="2057400" cy="6094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mman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90920" y="3378240"/>
              <a:ext cx="2057400" cy="6094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mman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76920" y="3378240"/>
              <a:ext cx="2057400" cy="6094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mmand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1295640" y="2463840"/>
              <a:ext cx="1676520" cy="914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581640" y="2463840"/>
              <a:ext cx="0" cy="8380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flipV="1">
              <a:off x="4190760" y="2463840"/>
              <a:ext cx="1676520" cy="914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346360" y="1472400"/>
            <a:ext cx="2998800" cy="674280"/>
            <a:chOff x="5346360" y="1472400"/>
            <a:chExt cx="2998800" cy="674280"/>
          </a:xfrm>
        </p:grpSpPr>
        <p:sp>
          <p:nvSpPr>
            <p:cNvPr id="573" name=""/>
            <p:cNvSpPr/>
            <p:nvPr/>
          </p:nvSpPr>
          <p:spPr>
            <a:xfrm rot="1800">
              <a:off x="6019920" y="1472760"/>
              <a:ext cx="232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Performs a task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9555000">
              <a:off x="5393880" y="167004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5454360" y="2154960"/>
            <a:ext cx="2714400" cy="833760"/>
            <a:chOff x="5454360" y="2154960"/>
            <a:chExt cx="2714400" cy="833760"/>
          </a:xfrm>
        </p:grpSpPr>
        <p:sp>
          <p:nvSpPr>
            <p:cNvPr id="576" name=""/>
            <p:cNvSpPr/>
            <p:nvPr/>
          </p:nvSpPr>
          <p:spPr>
            <a:xfrm rot="21584400">
              <a:off x="6325200" y="2158920"/>
              <a:ext cx="184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f0f"/>
                  </a:solidFill>
                  <a:latin typeface="Times New Roman"/>
                </a:rPr>
                <a:t>No specifi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f0f"/>
                  </a:solidFill>
                  <a:latin typeface="Times New Roman"/>
                </a:rPr>
                <a:t>semantic!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1560800">
              <a:off x="5486400" y="2255400"/>
              <a:ext cx="798480" cy="381240"/>
            </a:xfrm>
            <a:prstGeom prst="rightArrow">
              <a:avLst>
                <a:gd name="adj1" fmla="val 50000"/>
                <a:gd name="adj2" fmla="val 52361"/>
              </a:avLst>
            </a:prstGeom>
            <a:solidFill>
              <a:srgbClr val="ff0f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1064520" y="4064040"/>
            <a:ext cx="5208480" cy="1001880"/>
            <a:chOff x="1064520" y="4064040"/>
            <a:chExt cx="5208480" cy="1001880"/>
          </a:xfrm>
        </p:grpSpPr>
        <p:sp>
          <p:nvSpPr>
            <p:cNvPr id="579" name=""/>
            <p:cNvSpPr/>
            <p:nvPr/>
          </p:nvSpPr>
          <p:spPr>
            <a:xfrm>
              <a:off x="1064520" y="4606200"/>
              <a:ext cx="520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b00f0"/>
                  </a:solidFill>
                  <a:latin typeface="Times New Roman"/>
                </a:rPr>
                <a:t>Well-defined, but unrelated semantic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04960" y="4064040"/>
              <a:ext cx="228600" cy="542160"/>
            </a:xfrm>
            <a:prstGeom prst="upArrow">
              <a:avLst>
                <a:gd name="adj1" fmla="val 50000"/>
                <a:gd name="adj2" fmla="val 59291"/>
              </a:avLst>
            </a:prstGeom>
            <a:solidFill>
              <a:srgbClr val="0b0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86400" y="4064040"/>
              <a:ext cx="228600" cy="542160"/>
            </a:xfrm>
            <a:prstGeom prst="upArrow">
              <a:avLst>
                <a:gd name="adj1" fmla="val 50000"/>
                <a:gd name="adj2" fmla="val 59291"/>
              </a:avLst>
            </a:prstGeom>
            <a:solidFill>
              <a:srgbClr val="0b0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00200" y="4064040"/>
              <a:ext cx="228600" cy="542160"/>
            </a:xfrm>
            <a:prstGeom prst="upArrow">
              <a:avLst>
                <a:gd name="adj1" fmla="val 50000"/>
                <a:gd name="adj2" fmla="val 59291"/>
              </a:avLst>
            </a:prstGeom>
            <a:solidFill>
              <a:srgbClr val="0b0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304920" y="939960"/>
            <a:ext cx="1447560" cy="4572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v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752480" y="838080"/>
            <a:ext cx="1864080" cy="863640"/>
            <a:chOff x="1752480" y="838080"/>
            <a:chExt cx="1864080" cy="863640"/>
          </a:xfrm>
        </p:grpSpPr>
        <p:cxnSp>
          <p:nvCxnSpPr>
            <p:cNvPr id="585" name=""/>
            <p:cNvCxnSpPr>
              <a:stCxn id="583" idx="3"/>
              <a:endCxn id="564" idx="0"/>
            </p:cNvCxnSpPr>
            <p:nvPr/>
          </p:nvCxnSpPr>
          <p:spPr>
            <a:xfrm>
              <a:off x="1752480" y="1168200"/>
              <a:ext cx="1829520" cy="533880"/>
            </a:xfrm>
            <a:prstGeom prst="bentConnector2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arrow" w="med"/>
            </a:ln>
          </p:spPr>
        </p:cxnSp>
        <p:sp>
          <p:nvSpPr>
            <p:cNvPr id="586" name=""/>
            <p:cNvSpPr/>
            <p:nvPr/>
          </p:nvSpPr>
          <p:spPr>
            <a:xfrm>
              <a:off x="2614320" y="83808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vok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 txBox="1"/>
          <p:nvPr/>
        </p:nvSpPr>
        <p:spPr>
          <a:xfrm>
            <a:off x="533520" y="510552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ands = Lambda Functio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762120" y="6019920"/>
            <a:ext cx="670536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nonymous inner classes provide closures for lambdas!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Insertion Heuristic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ertion must take place at the le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 must grow only at the r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09480" y="3581280"/>
            <a:ext cx="715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ust transport 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rom the leaves to the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ithout affecting the heigh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560" y="226080"/>
            <a:ext cx="74674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 Black"/>
              </a:rPr>
              <a:t>Problem</a:t>
            </a: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: If a child node is too wide, it needs to split up and splice into its parent, but…</a:t>
            </a:r>
            <a:endParaRPr b="0" lang="en-US" sz="32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ild node does not know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plice into its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ild does not even have a reference to its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482868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Arial Black"/>
              </a:rPr>
              <a:t>Solution</a:t>
            </a:r>
            <a:r>
              <a:rPr b="0" i="1" lang="en-US" sz="3200" spc="-1" strike="noStrike">
                <a:solidFill>
                  <a:srgbClr val="ff3300"/>
                </a:solidFill>
                <a:latin typeface="Arial Black"/>
              </a:rPr>
              <a:t>: Pass a command (lambda) forward from the parent to the child during the recursive c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74160" y="1374840"/>
            <a:ext cx="7768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 SplitUpAndApply implements ITreeNAlg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 _ord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SplitUpAndApply(int order) { _order = orde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Object caseAt(int i, TreeN host, Object param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(i &lt;= _order) return ho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st.splitUpAt(i / 2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((ILambda)param).apply(host)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-360" y="22608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Split-up and Splice (Apply)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97" name=""/>
          <p:cNvSpPr/>
          <p:nvPr/>
        </p:nvSpPr>
        <p:spPr>
          <a:xfrm>
            <a:off x="2057400" y="1225440"/>
            <a:ext cx="3048120" cy="496440"/>
          </a:xfrm>
          <a:prstGeom prst="wedgeRoundRectCallout">
            <a:avLst>
              <a:gd name="adj1" fmla="val -53587"/>
              <a:gd name="adj2" fmla="val 10478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ax width of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2438280"/>
            <a:ext cx="3657600" cy="496440"/>
          </a:xfrm>
          <a:prstGeom prst="wedgeRoundRectCallout">
            <a:avLst>
              <a:gd name="adj1" fmla="val -66657"/>
              <a:gd name="adj2" fmla="val 1489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t too wide?  </a:t>
            </a: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no-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86400" y="2982960"/>
            <a:ext cx="3657600" cy="891000"/>
          </a:xfrm>
          <a:prstGeom prst="wedgeRoundRectCallout">
            <a:avLst>
              <a:gd name="adj1" fmla="val -76597"/>
              <a:gd name="adj2" fmla="val 953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oo wide?  </a:t>
            </a: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Split up then apply lamb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038480" y="5334120"/>
            <a:ext cx="3657600" cy="891000"/>
          </a:xfrm>
          <a:prstGeom prst="wedgeRoundRectCallout">
            <a:avLst>
              <a:gd name="adj1" fmla="val -38939"/>
              <a:gd name="adj2" fmla="val -1160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 lambda splices this child into its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5638680"/>
            <a:ext cx="786780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ambda/commands enable decoupled communication!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2280" y="30240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Insertion Algorithm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insertion point at the leaf and splice new data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plit-and-Apply visitor to transport excess data upw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or passed as parameter to recursive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root: split-and-sp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node: split-and-no-op will cause entire tree to grow in h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the splice/no-op as a command passed to the visit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638360" y="5334120"/>
            <a:ext cx="5867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ambdas simplify cod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294920" y="472428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lice into par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81280" y="1523880"/>
            <a:ext cx="30492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971800" y="1523880"/>
            <a:ext cx="380880" cy="83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87800" y="2793960"/>
            <a:ext cx="11160" cy="93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08320" y="2793960"/>
            <a:ext cx="768600" cy="93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53000" y="2774880"/>
            <a:ext cx="361800" cy="1035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01880" y="2793960"/>
            <a:ext cx="76212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4132440" y="3200400"/>
            <a:ext cx="287280" cy="52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14920" y="3200400"/>
            <a:ext cx="23796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28240" y="3024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Insertion Dynamic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15" name=""/>
          <p:cNvSpPr/>
          <p:nvPr/>
        </p:nvSpPr>
        <p:spPr>
          <a:xfrm>
            <a:off x="3216240" y="235296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42000" y="372456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30360" y="3727800"/>
            <a:ext cx="33300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349880" y="372456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1864800" y="2819520"/>
            <a:ext cx="878040" cy="90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329000" y="1222560"/>
            <a:ext cx="48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flipV="1">
            <a:off x="3676320" y="2806560"/>
            <a:ext cx="1143000" cy="89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828800" y="4191120"/>
            <a:ext cx="0" cy="366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59200" y="4202280"/>
            <a:ext cx="0" cy="366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359240" y="420516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36960" y="419400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22960" y="419724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039920" y="2286000"/>
            <a:ext cx="5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λ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17640" y="235620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936880" y="373716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17840" y="420372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557360" y="418140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11320" y="3657600"/>
            <a:ext cx="5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λ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4079880" y="4499280"/>
            <a:ext cx="485640" cy="792000"/>
            <a:chOff x="4079880" y="4499280"/>
            <a:chExt cx="485640" cy="792000"/>
          </a:xfrm>
        </p:grpSpPr>
        <p:sp>
          <p:nvSpPr>
            <p:cNvPr id="634" name=""/>
            <p:cNvSpPr/>
            <p:nvPr/>
          </p:nvSpPr>
          <p:spPr>
            <a:xfrm>
              <a:off x="4098960" y="4924440"/>
              <a:ext cx="0" cy="36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41760" y="4923000"/>
              <a:ext cx="0" cy="36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9880" y="4499280"/>
              <a:ext cx="48564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5483880" y="2057400"/>
            <a:ext cx="195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spl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b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636160" y="3657600"/>
            <a:ext cx="195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spl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b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56880" y="548640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563800" y="3246480"/>
            <a:ext cx="14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w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92200" y="1600200"/>
            <a:ext cx="14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w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723920" y="243828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lice into par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3960" y="259092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nd lambda to chil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953960" y="464832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nd lambda to chil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9400" y="91440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lements/node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866880" y="5486400"/>
            <a:ext cx="545760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033cc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Arial Black"/>
              </a:rPr>
              <a:t>The Tree is Balanced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033cc"/>
                  </a:gs>
                  <a:gs pos="100000">
                    <a:srgbClr val="ff33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40741E-007 L -0.04392 0.02384 C -0.05451 0.02801 -0.06423 0.03889 -0.07187 0.05324 C -0.08055 0.06968 -0.08576 0.08403 -0.08472 0.09907 L -0.08507 0.16181 E">
                                      <p:cBhvr>
                                        <p:cTn id="509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24 0.1618 L 0.025 0.32152 E">
                                      <p:cBhvr>
                                        <p:cTn id="530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0.07622 0.11342 E">
                                      <p:cBhvr>
                                        <p:cTn id="532" dur="2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-0.03211 0.10232 E">
                                      <p:cBhvr>
                                        <p:cTn id="555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0.32152 L -0.02431 0.48263 E">
                                      <p:cBhvr>
                                        <p:cTn id="557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81481E-006 L -0.0224 -0.11296 E">
                                      <p:cBhvr>
                                        <p:cTn id="5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 -0.11111 E">
                                      <p:cBhvr>
                                        <p:cTn id="597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11111 L -0.06893 -0.19884 E">
                                      <p:cBhvr>
                                        <p:cTn id="625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037E-007 L 1.38889E-006 -0.1544 E">
                                      <p:cBhvr>
                                        <p:cTn id="648" dur="2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6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2260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Motivation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c self-balancing tree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3-4 tree (see next 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-black tree (binary tree equivalent of 2-3-4 tr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tree (generalized 2-3-4 tr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icult and complex.   Where’s the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f0f"/>
                </a:solidFill>
                <a:latin typeface="Arial"/>
              </a:rPr>
              <a:t>What’s the proper abstr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to decouple algorithms from data stru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52280" y="223920"/>
            <a:ext cx="85345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Object caseAt(int s, final TreeN host, final Object key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witch(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se 0: {  return host.spliceAt(0, new TreeN((Integer) key))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ault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st.execute(new ITreeNAlgo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Object caseAt(int s_help, final TreeN h, final Object cmd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witch(s_hel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se 0: { return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((ILambda)cmd).apply(new TreeN((Integer)key)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;}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ault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l int[] x={0};  //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ack to get around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(; x[0] &lt; s_help; x[0]++) {  //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ind insertion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d = h.getDat(x[0]).intValu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(d &gt;= ((Integer)key).intValue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(d == ((Integer)key).intValue()) return h; // no duplicate keys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se break;  }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.getChild(x[0]).execute(this,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new ILambda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                              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public Object apply(Object child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                                  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return h.spliceAt(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x[0]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, (TreeN) child); } }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h.execute(splitUpAndSplice,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m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; } } } }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new ILambda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public Object apply(Object child){ return host; }}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host;  } }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76720" y="1371600"/>
            <a:ext cx="3809880" cy="891000"/>
          </a:xfrm>
          <a:prstGeom prst="wedgeRoundRectCallout">
            <a:avLst>
              <a:gd name="adj1" fmla="val -54865"/>
              <a:gd name="adj2" fmla="val -8182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mpty tree? </a:t>
            </a: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Splice new tree in 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733920" y="228600"/>
            <a:ext cx="5105160" cy="891000"/>
          </a:xfrm>
          <a:prstGeom prst="wedgeRoundRectCallout">
            <a:avLst>
              <a:gd name="adj1" fmla="val -50680"/>
              <a:gd name="adj2" fmla="val 7293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n-Empty tree? </a:t>
            </a: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create a recursive hel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09880" y="912960"/>
            <a:ext cx="5105520" cy="496440"/>
          </a:xfrm>
          <a:prstGeom prst="wedgeRoundRectCallout">
            <a:avLst>
              <a:gd name="adj1" fmla="val -31097"/>
              <a:gd name="adj2" fmla="val 204925"/>
              <a:gd name="adj3" fmla="val 16667"/>
            </a:avLst>
          </a:prstGeom>
          <a:solidFill>
            <a:srgbClr val="ff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mpty tree? </a:t>
            </a: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splice into 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14800" y="2930400"/>
            <a:ext cx="4114800" cy="496440"/>
          </a:xfrm>
          <a:prstGeom prst="wedgeRoundRectCallout">
            <a:avLst>
              <a:gd name="adj1" fmla="val -71134"/>
              <a:gd name="adj2" fmla="val 25064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[0] has the splice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28600" y="1599840"/>
            <a:ext cx="1523520" cy="3963960"/>
            <a:chOff x="228600" y="1599840"/>
            <a:chExt cx="1523520" cy="3963960"/>
          </a:xfrm>
        </p:grpSpPr>
        <p:sp>
          <p:nvSpPr>
            <p:cNvPr id="653" name=""/>
            <p:cNvSpPr/>
            <p:nvPr/>
          </p:nvSpPr>
          <p:spPr>
            <a:xfrm rot="10800000">
              <a:off x="1218960" y="2819160"/>
              <a:ext cx="533160" cy="152424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6200000">
              <a:off x="-1307520" y="3136320"/>
              <a:ext cx="3963960" cy="891000"/>
            </a:xfrm>
            <a:prstGeom prst="wedgeRoundRectCallout">
              <a:avLst>
                <a:gd name="adj1" fmla="val 23300"/>
                <a:gd name="adj2" fmla="val 16152"/>
                <a:gd name="adj3" fmla="val 16667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Find the insertion/splice lo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343400" y="3122640"/>
            <a:ext cx="4572000" cy="891000"/>
          </a:xfrm>
          <a:prstGeom prst="wedgeRoundRectCallout">
            <a:avLst>
              <a:gd name="adj1" fmla="val -23546"/>
              <a:gd name="adj2" fmla="val 103592"/>
              <a:gd name="adj3" fmla="val 16667"/>
            </a:avLst>
          </a:prstGeom>
          <a:solidFill>
            <a:srgbClr val="ffff9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cur into the child, passing on the splicing lamb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343400" y="4191120"/>
            <a:ext cx="4572000" cy="496440"/>
          </a:xfrm>
          <a:prstGeom prst="wedgeRoundRectCallout">
            <a:avLst>
              <a:gd name="adj1" fmla="val -21532"/>
              <a:gd name="adj2" fmla="val 170578"/>
              <a:gd name="adj3" fmla="val 16667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un the given splicing lamb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33920" y="4800600"/>
            <a:ext cx="5105160" cy="496440"/>
          </a:xfrm>
          <a:prstGeom prst="wedgeRoundRectCallout">
            <a:avLst>
              <a:gd name="adj1" fmla="val -23018"/>
              <a:gd name="adj2" fmla="val 150504"/>
              <a:gd name="adj3" fmla="val 16667"/>
            </a:avLst>
          </a:prstGeom>
          <a:solidFill>
            <a:srgbClr val="ffff9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oot has no parent to splice i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24080" y="5638680"/>
            <a:ext cx="3733920" cy="496440"/>
          </a:xfrm>
          <a:prstGeom prst="wedgeRoundRectCallout">
            <a:avLst>
              <a:gd name="adj1" fmla="val -18208"/>
              <a:gd name="adj2" fmla="val -123402"/>
              <a:gd name="adj3" fmla="val 16667"/>
            </a:avLst>
          </a:prstGeom>
          <a:solidFill>
            <a:srgbClr val="ff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 beauty of closur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5486400" y="5562720"/>
            <a:ext cx="3371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(log n) insertion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5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5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5" dur="5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5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5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240" y="2260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Deletion Heuristic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etion only well-defined at le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might exist anywhere in th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 can only shorten at r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38080" y="4419720"/>
            <a:ext cx="715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ust transport 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rom the root to the leave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rom the leaves to the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ithout affecting the heigh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25360" y="32004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ush “candidate” data down from the root to the le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6080" y="3733920"/>
            <a:ext cx="55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ubble “excess” data back to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2280" y="30240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Deletion Algorithm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candidate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lit down at candidate and collapse with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root is a 2-node, then tree will shor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to delete will appear as 2-node below le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Split-and-Apply to transport excess data upw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057400" y="5334120"/>
            <a:ext cx="5867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 Rotation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429000" y="1295280"/>
            <a:ext cx="22860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819520" y="1295280"/>
            <a:ext cx="38088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697040" y="483084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013120" y="484020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468520" y="484020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905200" y="48513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191040" y="484020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627360" y="48448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51480" y="484020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06800" y="483084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354640" y="483084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084560" y="483084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57600" y="3657600"/>
            <a:ext cx="7632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86200" y="2438280"/>
            <a:ext cx="114300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343400" y="2438280"/>
            <a:ext cx="68580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86200" y="2438280"/>
            <a:ext cx="38088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05320" y="2438280"/>
            <a:ext cx="7596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2666520" y="2438280"/>
            <a:ext cx="30492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1980720" y="2438280"/>
            <a:ext cx="68580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800600" y="3657600"/>
            <a:ext cx="30492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365760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429000" y="3657600"/>
            <a:ext cx="45720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1828440" y="3657600"/>
            <a:ext cx="22860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2438280" y="2438280"/>
            <a:ext cx="60984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28240" y="2260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Deletion Dynamic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93" name=""/>
          <p:cNvSpPr/>
          <p:nvPr/>
        </p:nvSpPr>
        <p:spPr>
          <a:xfrm>
            <a:off x="3054240" y="198468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63880" y="319428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92680" y="319428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349880" y="319428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83000" y="4413600"/>
            <a:ext cx="33300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65480" y="441360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444760" y="441360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079880" y="441360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83040" y="4413600"/>
            <a:ext cx="48564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514600" y="3657600"/>
            <a:ext cx="15228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505320" y="2438280"/>
            <a:ext cx="76176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73080" y="114300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ve “3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81280" y="472428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57600" y="365760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86200" y="472428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3440" y="91440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lements/node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874760" y="1828800"/>
            <a:ext cx="278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-down cand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and colla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94760" y="54100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let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55640" y="2362320"/>
            <a:ext cx="24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-up and sp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990720" y="5486400"/>
            <a:ext cx="545760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033cc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Arial Black"/>
              </a:rPr>
              <a:t>The Tree is Balanced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033cc"/>
                  </a:gs>
                  <a:gs pos="100000">
                    <a:srgbClr val="ff33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5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-0.04393 -0.17709 E">
                                      <p:cBhvr>
                                        <p:cTn id="859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-0.04393 -0.17709 E">
                                      <p:cBhvr>
                                        <p:cTn id="861" dur="2000" fill="hold"/>
                                        <p:tgtEl>
                                          <p:spTgt spid="6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0.05607 -0.17709 E">
                                      <p:cBhvr>
                                        <p:cTn id="863" dur="2000" fill="hold"/>
                                        <p:tgtEl>
                                          <p:spTgt spid="6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33333E-006 L 3.05556E-006 -0.17708 E">
                                      <p:cBhvr>
                                        <p:cTn id="877" dur="2000" fill="hold"/>
                                        <p:tgtEl>
                                          <p:spTgt spid="6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33333E-006 L -3.61111E-006 -0.17708 E">
                                      <p:cBhvr>
                                        <p:cTn id="879" dur="2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33333E-006 L -3.05556E-006 -0.17708 E">
                                      <p:cBhvr>
                                        <p:cTn id="881" dur="2000" fill="hold"/>
                                        <p:tgtEl>
                                          <p:spTgt spid="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 -0.17708 E">
                                      <p:cBhvr>
                                        <p:cTn id="885" dur="2000" fill="hold"/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33333E-006 L -2.77778E-007 -0.17708 E">
                                      <p:cBhvr>
                                        <p:cTn id="887" dur="20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07407E-006 L -2.77778E-007 -0.17662 E">
                                      <p:cBhvr>
                                        <p:cTn id="889" dur="20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-1.94444E-006 -0.17662 E">
                                      <p:cBhvr>
                                        <p:cTn id="891" dur="2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81481E-006 L -3.05556E-006 -0.178 E">
                                      <p:cBhvr>
                                        <p:cTn id="893" dur="20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7.40741E-007 L -1.38889E-006 -0.1787 E">
                                      <p:cBhvr>
                                        <p:cTn id="895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81481E-006 L 1.66667E-006 -0.178 E">
                                      <p:cBhvr>
                                        <p:cTn id="897" dur="20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1112 L -0.00104 -0.17963 E">
                                      <p:cBhvr>
                                        <p:cTn id="899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81481E-006 L 4.72222E-006 -0.178 E">
                                      <p:cBhvr>
                                        <p:cTn id="901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1481E-006 L 1.11111E-006 -0.178 E">
                                      <p:cBhvr>
                                        <p:cTn id="903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07407E-006 L -2.77778E-007 -0.17662 E">
                                      <p:cBhvr>
                                        <p:cTn id="905" dur="20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7407E-006 L -1.38889E-006 -0.17662 E">
                                      <p:cBhvr>
                                        <p:cTn id="90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500"/>
                            </p:stCondLst>
                            <p:childTnLst>
                              <p:par>
                                <p:cTn id="9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92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93 -0.17709 L -0.02726 0.00069 E">
                                      <p:cBhvr>
                                        <p:cTn id="934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93 -0.17709 L -0.09393 -0.17709 E">
                                      <p:cBhvr>
                                        <p:cTn id="938" dur="2000" fill="hold"/>
                                        <p:tgtEl>
                                          <p:spTgt spid="6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2500"/>
                            </p:stCondLst>
                            <p:childTnLst>
                              <p:par>
                                <p:cTn id="9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6 0.00069 L -0.04393 0.15625 E">
                                      <p:cBhvr>
                                        <p:cTn id="948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0.17708 L -0.04774 -0.17708 E">
                                      <p:cBhvr>
                                        <p:cTn id="954" dur="2000" fill="hold"/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2000"/>
                            </p:stCondLst>
                            <p:childTnLst>
                              <p:par>
                                <p:cTn id="9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33333E-006 L -2.77778E-007 -0.13403 E">
                                      <p:cBhvr>
                                        <p:cTn id="997" dur="2000" fill="hold"/>
                                        <p:tgtEl>
                                          <p:spTgt spid="6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4560" y="3024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Conclusion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 abstraction lead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ty &amp; 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Visitors open up new pos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f-balancing trees t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de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-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mbda calc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-of-correctness &amp; complex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5" dur="5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500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320760"/>
            <a:ext cx="746748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A 2-3-4 Tree is…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1676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629400" y="2895480"/>
            <a:ext cx="872640" cy="685800"/>
            <a:chOff x="6629400" y="2895480"/>
            <a:chExt cx="872640" cy="685800"/>
          </a:xfrm>
        </p:grpSpPr>
        <p:sp>
          <p:nvSpPr>
            <p:cNvPr id="91" name=""/>
            <p:cNvSpPr/>
            <p:nvPr/>
          </p:nvSpPr>
          <p:spPr>
            <a:xfrm flipH="1">
              <a:off x="6629400" y="3192120"/>
              <a:ext cx="22824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73800" y="3200040"/>
              <a:ext cx="22824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98960" y="2895480"/>
              <a:ext cx="53316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400440" y="4038480"/>
            <a:ext cx="1389240" cy="685800"/>
            <a:chOff x="6400440" y="4038480"/>
            <a:chExt cx="1389240" cy="685800"/>
          </a:xfrm>
        </p:grpSpPr>
        <p:sp>
          <p:nvSpPr>
            <p:cNvPr id="95" name=""/>
            <p:cNvSpPr/>
            <p:nvPr/>
          </p:nvSpPr>
          <p:spPr>
            <a:xfrm flipH="1">
              <a:off x="6400440" y="433512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61080" y="434304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70720" y="4038480"/>
              <a:ext cx="53316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11800" y="42670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86600" y="4038480"/>
              <a:ext cx="53316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562720" y="5410080"/>
            <a:ext cx="1915560" cy="685800"/>
            <a:chOff x="5562720" y="5410080"/>
            <a:chExt cx="1915560" cy="685800"/>
          </a:xfrm>
        </p:grpSpPr>
        <p:sp>
          <p:nvSpPr>
            <p:cNvPr id="101" name=""/>
            <p:cNvSpPr/>
            <p:nvPr/>
          </p:nvSpPr>
          <p:spPr>
            <a:xfrm flipH="1">
              <a:off x="5562720" y="5707080"/>
              <a:ext cx="22824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50040" y="5688000"/>
              <a:ext cx="22824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32280" y="5410080"/>
              <a:ext cx="53316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73720" y="5638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48160" y="5410080"/>
              <a:ext cx="53316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25960" y="5638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43520" y="5410080"/>
              <a:ext cx="56808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33880" y="1371600"/>
            <a:ext cx="14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f0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4240" y="2590920"/>
            <a:ext cx="53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f0f"/>
                </a:solidFill>
                <a:latin typeface="Times New Roman"/>
              </a:rPr>
              <a:t>Non-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in 3 possible st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5200" y="3219480"/>
            <a:ext cx="53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-St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data element +  2 sub-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5200" y="485136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3-St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3 data elements + 4 sub-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2840" y="4013280"/>
            <a:ext cx="54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-St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2 data elements +  3 sub-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5920" y="1981080"/>
            <a:ext cx="56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-St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no data element +  no sub-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17880"/>
            <a:ext cx="8610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Variant </a:t>
            </a:r>
            <a:r>
              <a:rPr b="1" i="1" lang="en-US" sz="4400" spc="-1" strike="noStrike">
                <a:solidFill>
                  <a:srgbClr val="0033cc"/>
                </a:solidFill>
                <a:latin typeface="Arial Black"/>
              </a:rPr>
              <a:t>vs</a:t>
            </a: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. Invariant Operation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00f0"/>
                </a:solidFill>
                <a:latin typeface="Arial"/>
              </a:rPr>
              <a:t>Self-balancing insertion is </a:t>
            </a:r>
            <a:r>
              <a:rPr b="1" lang="en-US" sz="3200" spc="-1" strike="noStrike" u="sng">
                <a:solidFill>
                  <a:srgbClr val="0b00f0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0b00f0"/>
                </a:solidFill>
                <a:latin typeface="Arial"/>
              </a:rPr>
              <a:t> an intrinsic (invariant) operation of a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invariant oper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ors &amp; Constru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onstructive and Destructive op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struc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Splice a tree into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struc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Split a tree into a 2-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980720" y="2590920"/>
            <a:ext cx="873720" cy="685800"/>
            <a:chOff x="1980720" y="2590920"/>
            <a:chExt cx="873720" cy="685800"/>
          </a:xfrm>
        </p:grpSpPr>
        <p:sp>
          <p:nvSpPr>
            <p:cNvPr id="117" name=""/>
            <p:cNvSpPr/>
            <p:nvPr/>
          </p:nvSpPr>
          <p:spPr>
            <a:xfrm flipH="1">
              <a:off x="1980720" y="288756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25840" y="289548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51000" y="2590920"/>
              <a:ext cx="53352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Splittin’ and Splicin’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734840" y="2590920"/>
            <a:ext cx="1389240" cy="685800"/>
            <a:chOff x="1734840" y="2590920"/>
            <a:chExt cx="1389240" cy="685800"/>
          </a:xfrm>
        </p:grpSpPr>
        <p:sp>
          <p:nvSpPr>
            <p:cNvPr id="122" name=""/>
            <p:cNvSpPr/>
            <p:nvPr/>
          </p:nvSpPr>
          <p:spPr>
            <a:xfrm flipH="1">
              <a:off x="1734840" y="288756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95480" y="289548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05120" y="2590920"/>
              <a:ext cx="53316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46200" y="281952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21000" y="2590920"/>
              <a:ext cx="53316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295280" y="2514600"/>
            <a:ext cx="2286000" cy="914400"/>
            <a:chOff x="1295280" y="2514600"/>
            <a:chExt cx="2286000" cy="914400"/>
          </a:xfrm>
        </p:grpSpPr>
        <p:sp>
          <p:nvSpPr>
            <p:cNvPr id="128" name=""/>
            <p:cNvSpPr/>
            <p:nvPr/>
          </p:nvSpPr>
          <p:spPr>
            <a:xfrm>
              <a:off x="1295280" y="2514600"/>
              <a:ext cx="2286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447200" y="2590920"/>
              <a:ext cx="1916640" cy="685800"/>
              <a:chOff x="1447200" y="2590920"/>
              <a:chExt cx="1916640" cy="685800"/>
            </a:xfrm>
          </p:grpSpPr>
          <p:sp>
            <p:nvSpPr>
              <p:cNvPr id="130" name=""/>
              <p:cNvSpPr/>
              <p:nvPr/>
            </p:nvSpPr>
            <p:spPr>
              <a:xfrm flipH="1">
                <a:off x="1447200" y="2887920"/>
                <a:ext cx="22860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35240" y="2868840"/>
                <a:ext cx="22860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17480" y="2590920"/>
                <a:ext cx="533520" cy="381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158920" y="2819520"/>
                <a:ext cx="0" cy="457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33360" y="2590920"/>
                <a:ext cx="533520" cy="381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711160" y="2819520"/>
                <a:ext cx="0" cy="457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628720" y="2590920"/>
                <a:ext cx="568440" cy="381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1980720" y="5562720"/>
            <a:ext cx="873720" cy="685800"/>
            <a:chOff x="1980720" y="5562720"/>
            <a:chExt cx="873720" cy="685800"/>
          </a:xfrm>
        </p:grpSpPr>
        <p:sp>
          <p:nvSpPr>
            <p:cNvPr id="138" name=""/>
            <p:cNvSpPr/>
            <p:nvPr/>
          </p:nvSpPr>
          <p:spPr>
            <a:xfrm flipH="1">
              <a:off x="1980720" y="585936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25840" y="586728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51000" y="5562720"/>
              <a:ext cx="53352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866920" y="2590920"/>
            <a:ext cx="1916640" cy="685800"/>
            <a:chOff x="5866920" y="2590920"/>
            <a:chExt cx="1916640" cy="685800"/>
          </a:xfrm>
        </p:grpSpPr>
        <p:sp>
          <p:nvSpPr>
            <p:cNvPr id="142" name=""/>
            <p:cNvSpPr/>
            <p:nvPr/>
          </p:nvSpPr>
          <p:spPr>
            <a:xfrm flipH="1">
              <a:off x="5866920" y="2887920"/>
              <a:ext cx="22860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54960" y="2868840"/>
              <a:ext cx="22860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37200" y="2590920"/>
              <a:ext cx="53352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78640" y="281952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53080" y="2590920"/>
              <a:ext cx="53352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30880" y="281952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48440" y="2590920"/>
              <a:ext cx="56844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352680" y="5029200"/>
            <a:ext cx="243864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791320" y="2895480"/>
            <a:ext cx="2052000" cy="922320"/>
            <a:chOff x="5791320" y="2895480"/>
            <a:chExt cx="2052000" cy="922320"/>
          </a:xfrm>
        </p:grpSpPr>
        <p:sp>
          <p:nvSpPr>
            <p:cNvPr id="151" name=""/>
            <p:cNvSpPr/>
            <p:nvPr/>
          </p:nvSpPr>
          <p:spPr>
            <a:xfrm flipH="1">
              <a:off x="6376680" y="289548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21440" y="2903400"/>
              <a:ext cx="22860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5791320" y="3122640"/>
              <a:ext cx="872640" cy="685800"/>
              <a:chOff x="5791320" y="3122640"/>
              <a:chExt cx="872640" cy="685800"/>
            </a:xfrm>
          </p:grpSpPr>
          <p:sp>
            <p:nvSpPr>
              <p:cNvPr id="154" name=""/>
              <p:cNvSpPr/>
              <p:nvPr/>
            </p:nvSpPr>
            <p:spPr>
              <a:xfrm flipH="1">
                <a:off x="5791320" y="3419280"/>
                <a:ext cx="228240" cy="381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435720" y="3427200"/>
                <a:ext cx="228240" cy="381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960880" y="3122640"/>
                <a:ext cx="533160" cy="38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970680" y="3132000"/>
              <a:ext cx="872640" cy="685800"/>
              <a:chOff x="6970680" y="3132000"/>
              <a:chExt cx="872640" cy="68580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6970680" y="3428640"/>
                <a:ext cx="228240" cy="381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615080" y="3436560"/>
                <a:ext cx="228240" cy="381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diamond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140240" y="3132000"/>
                <a:ext cx="533160" cy="38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6546960" y="2590920"/>
            <a:ext cx="5331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78320" y="19810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 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198108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3520" y="4191120"/>
            <a:ext cx="69339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rinsic operations on the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tree STRUCTURE, not the data!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2260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Structural Operation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3520" y="1219320"/>
            <a:ext cx="7543080" cy="5180400"/>
            <a:chOff x="533520" y="1219320"/>
            <a:chExt cx="7543080" cy="5180400"/>
          </a:xfrm>
        </p:grpSpPr>
        <p:grpSp>
          <p:nvGrpSpPr>
            <p:cNvPr id="167" name=""/>
            <p:cNvGrpSpPr/>
            <p:nvPr/>
          </p:nvGrpSpPr>
          <p:grpSpPr>
            <a:xfrm>
              <a:off x="533520" y="1219320"/>
              <a:ext cx="2162520" cy="1985040"/>
              <a:chOff x="533520" y="1219320"/>
              <a:chExt cx="2162520" cy="1985040"/>
            </a:xfrm>
          </p:grpSpPr>
          <p:sp>
            <p:nvSpPr>
              <p:cNvPr id="168" name=""/>
              <p:cNvSpPr/>
              <p:nvPr/>
            </p:nvSpPr>
            <p:spPr>
              <a:xfrm>
                <a:off x="1247400" y="1219320"/>
                <a:ext cx="713880" cy="297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533520" y="1516680"/>
                <a:ext cx="2162520" cy="1687680"/>
                <a:chOff x="533520" y="1516680"/>
                <a:chExt cx="2162520" cy="16876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042200" y="2062440"/>
                  <a:ext cx="381600" cy="2977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424160" y="2062440"/>
                  <a:ext cx="381600" cy="29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805760" y="2062440"/>
                  <a:ext cx="381600" cy="29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60600" y="2062440"/>
                  <a:ext cx="381600" cy="29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187360" y="2062440"/>
                  <a:ext cx="381600" cy="29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60600" y="1814400"/>
                  <a:ext cx="1908360" cy="24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614600" y="1516680"/>
                  <a:ext cx="0" cy="297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1678320" y="2360520"/>
                  <a:ext cx="254160" cy="843840"/>
                  <a:chOff x="1678320" y="2360520"/>
                  <a:chExt cx="254160" cy="84384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1678320" y="2658240"/>
                    <a:ext cx="254160" cy="248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805400" y="2360520"/>
                    <a:ext cx="0" cy="29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1678320" y="2906640"/>
                    <a:ext cx="254160" cy="297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915120" y="2360520"/>
                  <a:ext cx="254160" cy="843840"/>
                  <a:chOff x="915120" y="2360520"/>
                  <a:chExt cx="254160" cy="8438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915120" y="2658240"/>
                    <a:ext cx="254160" cy="248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1042200" y="2360520"/>
                    <a:ext cx="0" cy="29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915120" y="2906640"/>
                    <a:ext cx="254160" cy="2977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533520" y="2360520"/>
                  <a:ext cx="254160" cy="843840"/>
                  <a:chOff x="533520" y="2360520"/>
                  <a:chExt cx="254160" cy="84384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533520" y="2658240"/>
                    <a:ext cx="254160" cy="248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660600" y="2360520"/>
                    <a:ext cx="0" cy="29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533520" y="2906640"/>
                    <a:ext cx="254160" cy="297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2060280" y="2360520"/>
                  <a:ext cx="254160" cy="843840"/>
                  <a:chOff x="2060280" y="2360520"/>
                  <a:chExt cx="254160" cy="84384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2060280" y="2658240"/>
                    <a:ext cx="254160" cy="248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187360" y="2360520"/>
                    <a:ext cx="0" cy="29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060280" y="2906640"/>
                    <a:ext cx="254160" cy="297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2441880" y="2360520"/>
                  <a:ext cx="254160" cy="843840"/>
                  <a:chOff x="2441880" y="2360520"/>
                  <a:chExt cx="254160" cy="84384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2441880" y="2658240"/>
                    <a:ext cx="254160" cy="248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2568960" y="2360520"/>
                    <a:ext cx="0" cy="29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441880" y="2906640"/>
                    <a:ext cx="254160" cy="297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296720" y="2360520"/>
                  <a:ext cx="254160" cy="843840"/>
                  <a:chOff x="1296720" y="2360520"/>
                  <a:chExt cx="254160" cy="84384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1296720" y="2658240"/>
                    <a:ext cx="254160" cy="248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1423800" y="2360520"/>
                    <a:ext cx="0" cy="29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1296720" y="2906640"/>
                    <a:ext cx="254160" cy="297720"/>
                  </a:xfrm>
                  <a:prstGeom prst="rect">
                    <a:avLst/>
                  </a:pr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1" name=""/>
            <p:cNvGrpSpPr/>
            <p:nvPr/>
          </p:nvGrpSpPr>
          <p:grpSpPr>
            <a:xfrm>
              <a:off x="3195720" y="1219320"/>
              <a:ext cx="2238840" cy="2893680"/>
              <a:chOff x="3195720" y="1219320"/>
              <a:chExt cx="2238840" cy="2893680"/>
            </a:xfrm>
          </p:grpSpPr>
          <p:sp>
            <p:nvSpPr>
              <p:cNvPr id="202" name=""/>
              <p:cNvSpPr/>
              <p:nvPr/>
            </p:nvSpPr>
            <p:spPr>
              <a:xfrm>
                <a:off x="3195720" y="1219320"/>
                <a:ext cx="1885320" cy="310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1.splitUpAt(1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3377880" y="1477800"/>
                <a:ext cx="2056680" cy="2635200"/>
                <a:chOff x="3377880" y="1477800"/>
                <a:chExt cx="2056680" cy="26352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862080" y="2046240"/>
                  <a:ext cx="362160" cy="30996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224240" y="2925000"/>
                  <a:ext cx="36324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87480" y="2925000"/>
                  <a:ext cx="36216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498840" y="2925000"/>
                  <a:ext cx="36324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950000" y="2925000"/>
                  <a:ext cx="36324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498840" y="2665800"/>
                  <a:ext cx="363240" cy="25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3679920" y="2356560"/>
                  <a:ext cx="182160" cy="30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" name=""/>
                <p:cNvGrpSpPr/>
                <p:nvPr/>
              </p:nvGrpSpPr>
              <p:grpSpPr>
                <a:xfrm>
                  <a:off x="4466520" y="3234600"/>
                  <a:ext cx="241920" cy="878400"/>
                  <a:chOff x="4466520" y="3234600"/>
                  <a:chExt cx="241920" cy="87840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4466520" y="3544560"/>
                    <a:ext cx="24192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4587480" y="32346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4466520" y="3803040"/>
                    <a:ext cx="241920" cy="30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3377880" y="3234600"/>
                  <a:ext cx="241920" cy="878400"/>
                  <a:chOff x="3377880" y="3234600"/>
                  <a:chExt cx="241920" cy="87840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3377880" y="3544560"/>
                    <a:ext cx="24192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3498840" y="32346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377880" y="3803040"/>
                    <a:ext cx="241920" cy="30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4830120" y="3234600"/>
                  <a:ext cx="241200" cy="878400"/>
                  <a:chOff x="4830120" y="3234600"/>
                  <a:chExt cx="241200" cy="8784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4830120" y="3544560"/>
                    <a:ext cx="24120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4950720" y="32346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4830120" y="3803040"/>
                    <a:ext cx="241200" cy="30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5192280" y="3234600"/>
                  <a:ext cx="242280" cy="878400"/>
                  <a:chOff x="5192280" y="3234600"/>
                  <a:chExt cx="242280" cy="87840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5192280" y="3544560"/>
                    <a:ext cx="24228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313240" y="32346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5192280" y="3803040"/>
                    <a:ext cx="242280" cy="30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4224240" y="2665800"/>
                  <a:ext cx="1088640" cy="25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224240" y="2356560"/>
                  <a:ext cx="544320" cy="30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862080" y="1787760"/>
                  <a:ext cx="362160" cy="258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043160" y="1477800"/>
                  <a:ext cx="0" cy="309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" name=""/>
                <p:cNvGrpSpPr/>
                <p:nvPr/>
              </p:nvGrpSpPr>
              <p:grpSpPr>
                <a:xfrm>
                  <a:off x="3741120" y="3234600"/>
                  <a:ext cx="241200" cy="878400"/>
                  <a:chOff x="3741120" y="3234600"/>
                  <a:chExt cx="241200" cy="87840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3741120" y="3544560"/>
                    <a:ext cx="24120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861720" y="32346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741120" y="3803040"/>
                    <a:ext cx="241200" cy="30996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4103280" y="3234600"/>
                  <a:ext cx="241920" cy="878400"/>
                  <a:chOff x="4103280" y="3234600"/>
                  <a:chExt cx="241920" cy="8784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4103280" y="3544560"/>
                    <a:ext cx="24192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224240" y="32346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103280" y="3803040"/>
                    <a:ext cx="241920" cy="309960"/>
                  </a:xfrm>
                  <a:prstGeom prst="rect">
                    <a:avLst/>
                  </a:pr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9" name=""/>
            <p:cNvGrpSpPr/>
            <p:nvPr/>
          </p:nvGrpSpPr>
          <p:grpSpPr>
            <a:xfrm>
              <a:off x="896040" y="4289040"/>
              <a:ext cx="1301040" cy="2061360"/>
              <a:chOff x="896040" y="4289040"/>
              <a:chExt cx="1301040" cy="2061360"/>
            </a:xfrm>
          </p:grpSpPr>
          <p:sp>
            <p:nvSpPr>
              <p:cNvPr id="240" name=""/>
              <p:cNvSpPr/>
              <p:nvPr/>
            </p:nvSpPr>
            <p:spPr>
              <a:xfrm>
                <a:off x="1310040" y="4289040"/>
                <a:ext cx="473040" cy="35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896040" y="4593960"/>
                <a:ext cx="1301040" cy="1756440"/>
                <a:chOff x="896040" y="4593960"/>
                <a:chExt cx="1301040" cy="17564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369080" y="5162040"/>
                  <a:ext cx="354600" cy="309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β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724040" y="5162040"/>
                  <a:ext cx="354600" cy="309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014120" y="5162040"/>
                  <a:ext cx="354600" cy="309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α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014120" y="4903920"/>
                  <a:ext cx="1064520" cy="258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546200" y="4593960"/>
                  <a:ext cx="0" cy="309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1250640" y="5472000"/>
                  <a:ext cx="236520" cy="878400"/>
                  <a:chOff x="1250640" y="5472000"/>
                  <a:chExt cx="236520" cy="8784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1250640" y="5781960"/>
                    <a:ext cx="23652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1368720" y="54720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1250640" y="6040440"/>
                    <a:ext cx="236520" cy="309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896040" y="5472000"/>
                  <a:ext cx="236520" cy="878400"/>
                  <a:chOff x="896040" y="5472000"/>
                  <a:chExt cx="236520" cy="87840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896040" y="5781960"/>
                    <a:ext cx="23652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1014120" y="54720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896040" y="6040440"/>
                    <a:ext cx="236520" cy="309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1605600" y="5472000"/>
                  <a:ext cx="236520" cy="878400"/>
                  <a:chOff x="1605600" y="5472000"/>
                  <a:chExt cx="236520" cy="87840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1605600" y="5781960"/>
                    <a:ext cx="23652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1723680" y="54720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1605600" y="6040440"/>
                    <a:ext cx="236520" cy="309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1960560" y="5472000"/>
                  <a:ext cx="236520" cy="878400"/>
                  <a:chOff x="1960560" y="5472000"/>
                  <a:chExt cx="236520" cy="8784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1960560" y="5781960"/>
                    <a:ext cx="23652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078640" y="5472000"/>
                    <a:ext cx="0" cy="309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1960560" y="6040440"/>
                    <a:ext cx="236520" cy="309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3" name=""/>
            <p:cNvGrpSpPr/>
            <p:nvPr/>
          </p:nvGrpSpPr>
          <p:grpSpPr>
            <a:xfrm>
              <a:off x="4196520" y="4363200"/>
              <a:ext cx="3163680" cy="2036520"/>
              <a:chOff x="4196520" y="4363200"/>
              <a:chExt cx="3163680" cy="2036520"/>
            </a:xfrm>
          </p:grpSpPr>
          <p:sp>
            <p:nvSpPr>
              <p:cNvPr id="264" name=""/>
              <p:cNvSpPr/>
              <p:nvPr/>
            </p:nvSpPr>
            <p:spPr>
              <a:xfrm>
                <a:off x="4637520" y="4363200"/>
                <a:ext cx="2218680" cy="31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1.spliceAt(1, t2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4196520" y="4644000"/>
                <a:ext cx="3163680" cy="1755720"/>
                <a:chOff x="4196520" y="4644000"/>
                <a:chExt cx="3163680" cy="17557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778360" y="5212080"/>
                  <a:ext cx="365040" cy="30960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143400" y="5212080"/>
                  <a:ext cx="365040" cy="309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08440" y="5212080"/>
                  <a:ext cx="365040" cy="309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318200" y="5212080"/>
                  <a:ext cx="365040" cy="309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73480" y="5212080"/>
                  <a:ext cx="365040" cy="309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318200" y="4953600"/>
                  <a:ext cx="2920320" cy="258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778360" y="4644000"/>
                  <a:ext cx="0" cy="30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" name=""/>
                <p:cNvGrpSpPr/>
                <p:nvPr/>
              </p:nvGrpSpPr>
              <p:grpSpPr>
                <a:xfrm>
                  <a:off x="6386760" y="5522040"/>
                  <a:ext cx="243360" cy="877680"/>
                  <a:chOff x="6386760" y="5522040"/>
                  <a:chExt cx="243360" cy="8776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638676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650844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386760" y="6090120"/>
                    <a:ext cx="2433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4196520" y="5522040"/>
                  <a:ext cx="243360" cy="877680"/>
                  <a:chOff x="4196520" y="5522040"/>
                  <a:chExt cx="243360" cy="8776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419652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431820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196520" y="6090120"/>
                    <a:ext cx="2433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6751800" y="5522040"/>
                  <a:ext cx="243360" cy="877680"/>
                  <a:chOff x="6751800" y="5522040"/>
                  <a:chExt cx="243360" cy="87768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675180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87348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6751800" y="6090120"/>
                    <a:ext cx="2433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7116840" y="5522040"/>
                  <a:ext cx="243360" cy="877680"/>
                  <a:chOff x="7116840" y="5522040"/>
                  <a:chExt cx="243360" cy="877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711684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723852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7116840" y="6090120"/>
                    <a:ext cx="243360" cy="30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6021720" y="5522040"/>
                  <a:ext cx="243360" cy="877680"/>
                  <a:chOff x="6021720" y="5522040"/>
                  <a:chExt cx="243360" cy="87768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602172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14340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021720" y="6090120"/>
                    <a:ext cx="243360" cy="309600"/>
                  </a:xfrm>
                  <a:prstGeom prst="rect">
                    <a:avLst/>
                  </a:pr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>
                  <a:off x="5048280" y="5212080"/>
                  <a:ext cx="365040" cy="309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β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413320" y="5212080"/>
                  <a:ext cx="365040" cy="309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683240" y="5212080"/>
                  <a:ext cx="365040" cy="309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α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" name=""/>
                <p:cNvGrpSpPr/>
                <p:nvPr/>
              </p:nvGrpSpPr>
              <p:grpSpPr>
                <a:xfrm>
                  <a:off x="4926600" y="5522040"/>
                  <a:ext cx="243360" cy="877680"/>
                  <a:chOff x="4926600" y="5522040"/>
                  <a:chExt cx="243360" cy="87768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492660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504828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4926600" y="6090120"/>
                    <a:ext cx="243360" cy="30960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4561560" y="5522040"/>
                  <a:ext cx="243360" cy="877680"/>
                  <a:chOff x="4561560" y="5522040"/>
                  <a:chExt cx="243360" cy="87768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456156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468324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4561560" y="6090120"/>
                    <a:ext cx="243360" cy="30960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5291640" y="5522040"/>
                  <a:ext cx="243360" cy="877680"/>
                  <a:chOff x="5291640" y="5522040"/>
                  <a:chExt cx="243360" cy="87768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529164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541332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5291640" y="6090120"/>
                    <a:ext cx="243360" cy="30960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5656680" y="5522040"/>
                  <a:ext cx="243360" cy="877680"/>
                  <a:chOff x="5656680" y="5522040"/>
                  <a:chExt cx="243360" cy="87768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5656680" y="5831640"/>
                    <a:ext cx="243360" cy="258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5778360" y="5522040"/>
                    <a:ext cx="0" cy="30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656680" y="6090120"/>
                    <a:ext cx="243360" cy="30960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12" name=""/>
            <p:cNvGrpSpPr/>
            <p:nvPr/>
          </p:nvGrpSpPr>
          <p:grpSpPr>
            <a:xfrm>
              <a:off x="5747400" y="1219320"/>
              <a:ext cx="2329200" cy="2944800"/>
              <a:chOff x="5747400" y="1219320"/>
              <a:chExt cx="2329200" cy="2944800"/>
            </a:xfrm>
          </p:grpSpPr>
          <p:sp>
            <p:nvSpPr>
              <p:cNvPr id="313" name=""/>
              <p:cNvSpPr/>
              <p:nvPr/>
            </p:nvSpPr>
            <p:spPr>
              <a:xfrm>
                <a:off x="5747400" y="1219320"/>
                <a:ext cx="2329200" cy="328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1.splitDownAt(1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6100920" y="1529640"/>
                <a:ext cx="1693080" cy="2634480"/>
                <a:chOff x="6100920" y="1529640"/>
                <a:chExt cx="1693080" cy="2634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6402960" y="2976480"/>
                  <a:ext cx="362880" cy="30924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584760" y="2097720"/>
                  <a:ext cx="362880" cy="310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948000" y="2097720"/>
                  <a:ext cx="362160" cy="310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221520" y="2097720"/>
                  <a:ext cx="362880" cy="310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221520" y="1839960"/>
                  <a:ext cx="1451520" cy="257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584760" y="2408040"/>
                  <a:ext cx="0" cy="30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188840" y="2717640"/>
                  <a:ext cx="241920" cy="25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310160" y="2408040"/>
                  <a:ext cx="0" cy="30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188840" y="2976480"/>
                  <a:ext cx="24192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100920" y="2717640"/>
                  <a:ext cx="241920" cy="25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221520" y="2408040"/>
                  <a:ext cx="0" cy="30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100920" y="2976480"/>
                  <a:ext cx="24192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552080" y="2717640"/>
                  <a:ext cx="241920" cy="25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673400" y="2408040"/>
                  <a:ext cx="0" cy="30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552080" y="2976480"/>
                  <a:ext cx="24192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827040" y="2717640"/>
                  <a:ext cx="240840" cy="25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948000" y="2408040"/>
                  <a:ext cx="0" cy="30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827040" y="2976480"/>
                  <a:ext cx="24084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402960" y="2717640"/>
                  <a:ext cx="362880" cy="258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948000" y="1529640"/>
                  <a:ext cx="0" cy="31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281640" y="3596040"/>
                  <a:ext cx="241920" cy="258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402960" y="3286080"/>
                  <a:ext cx="0" cy="309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281640" y="3854160"/>
                  <a:ext cx="241920" cy="3099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644880" y="3596040"/>
                  <a:ext cx="241920" cy="258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765840" y="3286080"/>
                  <a:ext cx="0" cy="309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644880" y="3854160"/>
                  <a:ext cx="241920" cy="30996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308360" y="2097720"/>
                  <a:ext cx="36288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560" y="2260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Con/De-struction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33520" y="1219320"/>
            <a:ext cx="7238160" cy="4950000"/>
            <a:chOff x="533520" y="1219320"/>
            <a:chExt cx="7238160" cy="4950000"/>
          </a:xfrm>
        </p:grpSpPr>
        <p:grpSp>
          <p:nvGrpSpPr>
            <p:cNvPr id="344" name=""/>
            <p:cNvGrpSpPr/>
            <p:nvPr/>
          </p:nvGrpSpPr>
          <p:grpSpPr>
            <a:xfrm>
              <a:off x="533520" y="1312200"/>
              <a:ext cx="821520" cy="2046600"/>
              <a:chOff x="533520" y="1312200"/>
              <a:chExt cx="821520" cy="2046600"/>
            </a:xfrm>
          </p:grpSpPr>
          <p:sp>
            <p:nvSpPr>
              <p:cNvPr id="345" name=""/>
              <p:cNvSpPr/>
              <p:nvPr/>
            </p:nvSpPr>
            <p:spPr>
              <a:xfrm>
                <a:off x="533520" y="1312200"/>
                <a:ext cx="821520" cy="36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587880" y="1675440"/>
                <a:ext cx="729360" cy="1683360"/>
                <a:chOff x="587880" y="1675440"/>
                <a:chExt cx="729360" cy="168336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726480" y="1675440"/>
                  <a:ext cx="453960" cy="648360"/>
                  <a:chOff x="726480" y="1675440"/>
                  <a:chExt cx="453960" cy="6483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726480" y="2068920"/>
                    <a:ext cx="453960" cy="2548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956160" y="1675440"/>
                    <a:ext cx="0" cy="36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587880" y="2332080"/>
                  <a:ext cx="729360" cy="1026720"/>
                  <a:chOff x="587880" y="2332080"/>
                  <a:chExt cx="729360" cy="102672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733680" y="2332080"/>
                    <a:ext cx="437760" cy="362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587880" y="2694960"/>
                    <a:ext cx="291600" cy="663840"/>
                    <a:chOff x="587880" y="2694960"/>
                    <a:chExt cx="291600" cy="66384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587880" y="3056040"/>
                      <a:ext cx="291600" cy="30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733680" y="2694960"/>
                      <a:ext cx="0" cy="36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1026000" y="2694960"/>
                    <a:ext cx="291240" cy="663840"/>
                    <a:chOff x="1026000" y="2694960"/>
                    <a:chExt cx="291240" cy="66384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1026000" y="3056040"/>
                      <a:ext cx="291240" cy="30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1171440" y="2694960"/>
                      <a:ext cx="0" cy="36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58" name=""/>
            <p:cNvGrpSpPr/>
            <p:nvPr/>
          </p:nvGrpSpPr>
          <p:grpSpPr>
            <a:xfrm>
              <a:off x="796320" y="4188600"/>
              <a:ext cx="541800" cy="1057680"/>
              <a:chOff x="796320" y="4188600"/>
              <a:chExt cx="541800" cy="1057680"/>
            </a:xfrm>
          </p:grpSpPr>
          <p:sp>
            <p:nvSpPr>
              <p:cNvPr id="359" name=""/>
              <p:cNvSpPr/>
              <p:nvPr/>
            </p:nvSpPr>
            <p:spPr>
              <a:xfrm>
                <a:off x="796320" y="4188600"/>
                <a:ext cx="541800" cy="43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925920" y="4559400"/>
                <a:ext cx="291240" cy="686880"/>
                <a:chOff x="925920" y="4559400"/>
                <a:chExt cx="291240" cy="6868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67760" y="4559400"/>
                  <a:ext cx="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25920" y="4943160"/>
                  <a:ext cx="291240" cy="303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3" name=""/>
            <p:cNvGrpSpPr/>
            <p:nvPr/>
          </p:nvGrpSpPr>
          <p:grpSpPr>
            <a:xfrm>
              <a:off x="2724840" y="1219320"/>
              <a:ext cx="2169000" cy="2103480"/>
              <a:chOff x="2724840" y="1219320"/>
              <a:chExt cx="2169000" cy="2103480"/>
            </a:xfrm>
          </p:grpSpPr>
          <p:sp>
            <p:nvSpPr>
              <p:cNvPr id="364" name=""/>
              <p:cNvSpPr/>
              <p:nvPr/>
            </p:nvSpPr>
            <p:spPr>
              <a:xfrm>
                <a:off x="2724840" y="1219320"/>
                <a:ext cx="216900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1.splitUpAt(0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3431160" y="1638720"/>
                <a:ext cx="729000" cy="1684080"/>
                <a:chOff x="3431160" y="1638720"/>
                <a:chExt cx="729000" cy="1684080"/>
              </a:xfrm>
            </p:grpSpPr>
            <p:grpSp>
              <p:nvGrpSpPr>
                <p:cNvPr id="366" name=""/>
                <p:cNvGrpSpPr/>
                <p:nvPr/>
              </p:nvGrpSpPr>
              <p:grpSpPr>
                <a:xfrm>
                  <a:off x="3569760" y="1638720"/>
                  <a:ext cx="453960" cy="648720"/>
                  <a:chOff x="3569760" y="1638720"/>
                  <a:chExt cx="453960" cy="64872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>
                    <a:off x="3569760" y="2032560"/>
                    <a:ext cx="453960" cy="2548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3799440" y="1638720"/>
                    <a:ext cx="0" cy="363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3431160" y="2295720"/>
                  <a:ext cx="729000" cy="1027080"/>
                  <a:chOff x="3431160" y="2295720"/>
                  <a:chExt cx="729000" cy="102708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3576960" y="2295720"/>
                    <a:ext cx="437400" cy="363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3431160" y="2658960"/>
                    <a:ext cx="291600" cy="663840"/>
                    <a:chOff x="3431160" y="2658960"/>
                    <a:chExt cx="291600" cy="66384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3431160" y="3020040"/>
                      <a:ext cx="291600" cy="30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3576960" y="2658960"/>
                      <a:ext cx="0" cy="36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3868920" y="2658960"/>
                    <a:ext cx="291240" cy="663840"/>
                    <a:chOff x="3868920" y="2658960"/>
                    <a:chExt cx="291240" cy="66384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3868920" y="3020040"/>
                      <a:ext cx="291240" cy="30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4014360" y="2658960"/>
                      <a:ext cx="0" cy="36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77" name=""/>
            <p:cNvGrpSpPr/>
            <p:nvPr/>
          </p:nvGrpSpPr>
          <p:grpSpPr>
            <a:xfrm>
              <a:off x="5091480" y="1219320"/>
              <a:ext cx="2680200" cy="1151280"/>
              <a:chOff x="5091480" y="1219320"/>
              <a:chExt cx="2680200" cy="1151280"/>
            </a:xfrm>
          </p:grpSpPr>
          <p:sp>
            <p:nvSpPr>
              <p:cNvPr id="378" name=""/>
              <p:cNvSpPr/>
              <p:nvPr/>
            </p:nvSpPr>
            <p:spPr>
              <a:xfrm>
                <a:off x="5091480" y="1219320"/>
                <a:ext cx="2680200" cy="39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1.splitDownAt(0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6106680" y="1683000"/>
                <a:ext cx="291600" cy="687600"/>
                <a:chOff x="6106680" y="1683000"/>
                <a:chExt cx="291600" cy="6876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248520" y="1683000"/>
                  <a:ext cx="0" cy="37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106680" y="2067120"/>
                  <a:ext cx="291600" cy="303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3952080" y="4095720"/>
              <a:ext cx="2552400" cy="2073600"/>
              <a:chOff x="3952080" y="4095720"/>
              <a:chExt cx="2552400" cy="2073600"/>
            </a:xfrm>
          </p:grpSpPr>
          <p:sp>
            <p:nvSpPr>
              <p:cNvPr id="383" name=""/>
              <p:cNvSpPr/>
              <p:nvPr/>
            </p:nvSpPr>
            <p:spPr>
              <a:xfrm>
                <a:off x="3952080" y="4095720"/>
                <a:ext cx="2552400" cy="38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2.spliceAt(0, t1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4752000" y="4485960"/>
                <a:ext cx="729000" cy="1683360"/>
                <a:chOff x="4752000" y="4485960"/>
                <a:chExt cx="729000" cy="1683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4890600" y="4485960"/>
                  <a:ext cx="453960" cy="648360"/>
                  <a:chOff x="4890600" y="4485960"/>
                  <a:chExt cx="453960" cy="64836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4890600" y="4879440"/>
                    <a:ext cx="453960" cy="2548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5120280" y="4485960"/>
                    <a:ext cx="0" cy="36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4752000" y="5142600"/>
                  <a:ext cx="729000" cy="1026720"/>
                  <a:chOff x="4752000" y="5142600"/>
                  <a:chExt cx="729000" cy="102672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4897800" y="5142600"/>
                    <a:ext cx="437400" cy="362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4752000" y="5505480"/>
                    <a:ext cx="291600" cy="663840"/>
                    <a:chOff x="4752000" y="5505480"/>
                    <a:chExt cx="291600" cy="66384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4752000" y="5866560"/>
                      <a:ext cx="291600" cy="30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4897800" y="5505480"/>
                      <a:ext cx="0" cy="36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5189760" y="5505480"/>
                    <a:ext cx="291240" cy="663840"/>
                    <a:chOff x="5189760" y="5505480"/>
                    <a:chExt cx="291240" cy="66384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5189760" y="5866560"/>
                      <a:ext cx="291240" cy="30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5335200" y="5505480"/>
                      <a:ext cx="0" cy="36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Visitor Design Pattern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97" name=""/>
          <p:cNvSpPr/>
          <p:nvPr/>
        </p:nvSpPr>
        <p:spPr>
          <a:xfrm>
            <a:off x="614160" y="4191120"/>
            <a:ext cx="707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Invariant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: Host</a:t>
            </a:r>
            <a:r>
              <a:rPr b="1" lang="en-US" sz="3200" spc="-1" strike="noStrike" baseline="-25000">
                <a:solidFill>
                  <a:srgbClr val="a50021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alls case</a:t>
            </a:r>
            <a:r>
              <a:rPr b="1" lang="en-US" sz="3200" spc="-1" strike="noStrike" baseline="-25000">
                <a:solidFill>
                  <a:srgbClr val="a50021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of the visi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81080" y="1523880"/>
            <a:ext cx="1676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ecute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43600" y="1523880"/>
            <a:ext cx="1600200" cy="160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Vis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case1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case2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case3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990720" y="2285640"/>
            <a:ext cx="3549600" cy="1143360"/>
            <a:chOff x="990720" y="2285640"/>
            <a:chExt cx="3549600" cy="1143360"/>
          </a:xfrm>
        </p:grpSpPr>
        <p:sp>
          <p:nvSpPr>
            <p:cNvPr id="401" name=""/>
            <p:cNvSpPr/>
            <p:nvPr/>
          </p:nvSpPr>
          <p:spPr>
            <a:xfrm>
              <a:off x="990720" y="2895480"/>
              <a:ext cx="103500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s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86360" y="2895480"/>
              <a:ext cx="103500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s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05320" y="2895480"/>
              <a:ext cx="103500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st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524240" y="2285640"/>
              <a:ext cx="9907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2971800" y="2285640"/>
              <a:ext cx="9903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2743560" y="2285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105520" y="3124080"/>
            <a:ext cx="3123720" cy="990720"/>
            <a:chOff x="5105520" y="3124080"/>
            <a:chExt cx="3123720" cy="990720"/>
          </a:xfrm>
        </p:grpSpPr>
        <p:sp>
          <p:nvSpPr>
            <p:cNvPr id="408" name=""/>
            <p:cNvSpPr/>
            <p:nvPr/>
          </p:nvSpPr>
          <p:spPr>
            <a:xfrm>
              <a:off x="5105520" y="3581280"/>
              <a:ext cx="129528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isito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33960" y="3581280"/>
              <a:ext cx="129528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isito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715000" y="3124080"/>
              <a:ext cx="685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7010280" y="3124080"/>
              <a:ext cx="609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 txBox="1"/>
          <p:nvPr/>
        </p:nvSpPr>
        <p:spPr>
          <a:xfrm>
            <a:off x="1981080" y="563868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Non-Extensibl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13" name=""/>
          <p:cNvSpPr/>
          <p:nvPr/>
        </p:nvSpPr>
        <p:spPr>
          <a:xfrm flipV="1" rot="19939800">
            <a:off x="3276720" y="2971080"/>
            <a:ext cx="2709720" cy="743040"/>
          </a:xfrm>
          <a:custGeom>
            <a:avLst/>
            <a:gdLst>
              <a:gd name="textAreaLeft" fmla="*/ 0 w 2709720"/>
              <a:gd name="textAreaRight" fmla="*/ 2710080 w 2709720"/>
              <a:gd name="textAreaTop" fmla="*/ 360 h 743040"/>
              <a:gd name="textAreaBottom" fmla="*/ 743760 h 743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645" stAng="10800000" swAng="5400000"/>
                <a:lnTo>
                  <a:pt x="17216" y="4515"/>
                </a:lnTo>
                <a:lnTo>
                  <a:pt x="17216" y="0"/>
                </a:lnTo>
                <a:lnTo>
                  <a:pt x="21600" y="6079"/>
                </a:lnTo>
                <a:lnTo>
                  <a:pt x="17216" y="12158"/>
                </a:lnTo>
                <a:lnTo>
                  <a:pt x="17216" y="7643"/>
                </a:lnTo>
                <a:lnTo>
                  <a:pt x="12427" y="7643"/>
                </a:lnTo>
                <a:arcTo wR="9299" hR="4517" stAng="16200000" swAng="-5400000"/>
                <a:lnTo>
                  <a:pt x="3128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25560" y="487692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xed # of method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ixed # of 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Generalized Visitors</a:t>
            </a:r>
            <a:endParaRPr b="0" lang="en-US" sz="44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16" name=""/>
          <p:cNvSpPr/>
          <p:nvPr/>
        </p:nvSpPr>
        <p:spPr>
          <a:xfrm>
            <a:off x="608760" y="4191120"/>
            <a:ext cx="782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Invariant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: Host</a:t>
            </a:r>
            <a:r>
              <a:rPr b="1" lang="en-US" sz="3200" spc="-1" strike="noStrike" baseline="-25000">
                <a:solidFill>
                  <a:srgbClr val="a50021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alls caseAt(i) of the visi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1523880"/>
            <a:ext cx="1676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ecute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43600" y="1752480"/>
            <a:ext cx="17524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Vis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caseAt(int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990720" y="2285640"/>
            <a:ext cx="3549600" cy="1143360"/>
            <a:chOff x="990720" y="2285640"/>
            <a:chExt cx="3549600" cy="1143360"/>
          </a:xfrm>
        </p:grpSpPr>
        <p:sp>
          <p:nvSpPr>
            <p:cNvPr id="420" name=""/>
            <p:cNvSpPr/>
            <p:nvPr/>
          </p:nvSpPr>
          <p:spPr>
            <a:xfrm>
              <a:off x="990720" y="2895480"/>
              <a:ext cx="103500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s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86360" y="2895480"/>
              <a:ext cx="103500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s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05320" y="2895480"/>
              <a:ext cx="103500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st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1524240" y="2285640"/>
              <a:ext cx="9907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2971800" y="2285640"/>
              <a:ext cx="9903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2743560" y="2285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105520" y="3124080"/>
            <a:ext cx="3123720" cy="990720"/>
            <a:chOff x="5105520" y="3124080"/>
            <a:chExt cx="3123720" cy="990720"/>
          </a:xfrm>
        </p:grpSpPr>
        <p:sp>
          <p:nvSpPr>
            <p:cNvPr id="427" name=""/>
            <p:cNvSpPr/>
            <p:nvPr/>
          </p:nvSpPr>
          <p:spPr>
            <a:xfrm>
              <a:off x="5105520" y="3581280"/>
              <a:ext cx="129528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isito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33960" y="3581280"/>
              <a:ext cx="1295280" cy="533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isito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5715000" y="3124080"/>
              <a:ext cx="685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7010280" y="3124080"/>
              <a:ext cx="609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 txBox="1"/>
          <p:nvPr/>
        </p:nvSpPr>
        <p:spPr>
          <a:xfrm>
            <a:off x="380880" y="5105520"/>
            <a:ext cx="7678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Unbounded # of hosts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2" name=""/>
          <p:cNvSpPr/>
          <p:nvPr/>
        </p:nvSpPr>
        <p:spPr>
          <a:xfrm flipV="1" rot="19939800">
            <a:off x="3276720" y="2971080"/>
            <a:ext cx="2709720" cy="743040"/>
          </a:xfrm>
          <a:custGeom>
            <a:avLst/>
            <a:gdLst>
              <a:gd name="textAreaLeft" fmla="*/ 0 w 2709720"/>
              <a:gd name="textAreaRight" fmla="*/ 2710080 w 2709720"/>
              <a:gd name="textAreaTop" fmla="*/ 360 h 743040"/>
              <a:gd name="textAreaBottom" fmla="*/ 743760 h 743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645" stAng="10800000" swAng="5400000"/>
                <a:lnTo>
                  <a:pt x="17216" y="4515"/>
                </a:lnTo>
                <a:lnTo>
                  <a:pt x="17216" y="0"/>
                </a:lnTo>
                <a:lnTo>
                  <a:pt x="21600" y="6079"/>
                </a:lnTo>
                <a:lnTo>
                  <a:pt x="17216" y="12158"/>
                </a:lnTo>
                <a:lnTo>
                  <a:pt x="17216" y="7643"/>
                </a:lnTo>
                <a:lnTo>
                  <a:pt x="12427" y="7643"/>
                </a:lnTo>
                <a:arcTo wR="9299" hR="4517" stAng="16200000" swAng="-5400000"/>
                <a:lnTo>
                  <a:pt x="3128" y="216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ice University</cp:lastModifiedBy>
  <dcterms:modified xsi:type="dcterms:W3CDTF">2004-04-14T17:20:15Z</dcterms:modified>
  <cp:revision>47</cp:revision>
  <dc:subject/>
  <dc:title>PowerPoint Presentation</dc:title>
</cp:coreProperties>
</file>